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304088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304400" cy="95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35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263240" y="725040"/>
            <a:ext cx="4775400" cy="3581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6484320" y="9170280"/>
            <a:ext cx="1063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542F7A0-8154-42F5-A687-BFE33D069A05}" type="slidenum">
              <a:rPr b="0" lang="en-US" sz="15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263600" y="725400"/>
            <a:ext cx="4775400" cy="35816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35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se notes pages, references are made to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he Craft of Edit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pringer-Verlag, 2000). Also referred to is the “Writing Guidelines for Engineering and Science Students,” which can be found at the following addres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.eng.vt.edu/exercises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at page, you will find links to the “Writing Exercises for Engineers and Scientists” and to the “Resources for Instructors.” If you would like a 60-day evaluation copy of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he Craft of Ed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please go to the following web pag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springer.de/textbooks/textbook_inspect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 summary of the scope of this presentation, see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he Craft of Ed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pages vii to 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63600" y="725400"/>
            <a:ext cx="4775400" cy="35816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35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 discussion of copy editing, see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he Craft of Ed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pages 50 to 52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263600" y="725400"/>
            <a:ext cx="4775400" cy="35816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35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 discussion of reducing the friction between editors and authors, see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he Craft of Ed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chapter 5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63600" y="725400"/>
            <a:ext cx="4775400" cy="3581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35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 discussion of pet peeves, see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he Craft of Ed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pages 38-42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263600" y="725400"/>
            <a:ext cx="4775400" cy="35816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35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 discussion of tone in editing, see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he Craft of Ed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pages 14-15, 73-77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263600" y="725400"/>
            <a:ext cx="4775400" cy="35816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35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cope of this presentation, see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he Craft of Ed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pages vii to x and pages 1-7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263600" y="725400"/>
            <a:ext cx="4775400" cy="3581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35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 discussion of constraints, see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he Craft of Ed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pages 7 to 1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263600" y="725400"/>
            <a:ext cx="4775400" cy="35816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35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 discussion of these three perspectives, see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he Craft of Ed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pages 2 to 7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263600" y="725400"/>
            <a:ext cx="4775400" cy="35816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35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 discussion of the perspective of content, see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he Craft of Ed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pages 12 to 17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263600" y="725400"/>
            <a:ext cx="4775400" cy="3581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35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 discussion of the perspective of style, see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he Craft of Ed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pages 17 to 2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263600" y="725400"/>
            <a:ext cx="4775400" cy="35816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35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 discussion of the perspective of form, see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he Craft of Ed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pages 26 to 3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263600" y="725400"/>
            <a:ext cx="4775400" cy="35816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35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 discussion of variables to weigh in making an edit, see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he Craft of Ed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pages 7-1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263600" y="725400"/>
            <a:ext cx="4775400" cy="3581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35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 discussion of making edits clear, making edits consistent, and giving edits a hierarchy, see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he Craft of Ed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pages 45 to 63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724320"/>
            <a:ext cx="7848720" cy="45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784872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09480" y="4127400"/>
            <a:ext cx="784872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724320"/>
            <a:ext cx="7848720" cy="45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383004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1400" y="1980720"/>
            <a:ext cx="383004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4127400"/>
            <a:ext cx="383004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31400" y="4127400"/>
            <a:ext cx="383004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724320"/>
            <a:ext cx="7848720" cy="45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25272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63400" y="1980720"/>
            <a:ext cx="25272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17320" y="1980720"/>
            <a:ext cx="25272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09480" y="4127400"/>
            <a:ext cx="25272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63400" y="4127400"/>
            <a:ext cx="25272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17320" y="4127400"/>
            <a:ext cx="25272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724320"/>
            <a:ext cx="7848720" cy="45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09480" y="1980720"/>
            <a:ext cx="7848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724320"/>
            <a:ext cx="7848720" cy="45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784872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724320"/>
            <a:ext cx="7848720" cy="45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383004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31400" y="1980720"/>
            <a:ext cx="383004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724320"/>
            <a:ext cx="7848720" cy="45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09480" y="724320"/>
            <a:ext cx="7848720" cy="210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724320"/>
            <a:ext cx="7848720" cy="45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383004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1400" y="1980720"/>
            <a:ext cx="383004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09480" y="4127400"/>
            <a:ext cx="383004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724320"/>
            <a:ext cx="7848720" cy="45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383004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1400" y="1980720"/>
            <a:ext cx="383004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1400" y="4127400"/>
            <a:ext cx="383004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724320"/>
            <a:ext cx="7848720" cy="45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383004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1400" y="1980720"/>
            <a:ext cx="383004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4127400"/>
            <a:ext cx="784872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724320"/>
            <a:ext cx="7848720" cy="45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980720"/>
            <a:ext cx="784872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0000"/>
              </a:buClr>
              <a:buSzPct val="75000"/>
              <a:buFont typeface="Arial"/>
              <a:buChar char="_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90000"/>
              </a:buClr>
              <a:buSzPct val="65000"/>
              <a:buFont typeface="Arial"/>
              <a:buChar char="_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7440" y="457200"/>
            <a:ext cx="2969640" cy="18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The Craft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of Edit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3809880"/>
            <a:ext cx="4191120" cy="13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diting isn’t a cosmetic process. It’s a thinking proces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ichard Rhodes, auth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Making of the Atomic Bom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34120" y="838080"/>
            <a:ext cx="3074760" cy="4648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16000" y="1927080"/>
            <a:ext cx="638172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st year, city engineers came up with a plan to address the tetrachloroethane-contaminated soil required to be excavated for planned thoroughfare construction that will occur withi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ght-of-way adjacent to Building 1817, which houses the Genetics Laborator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3809520" y="1995480"/>
            <a:ext cx="3777480" cy="501480"/>
            <a:chOff x="3809520" y="1995480"/>
            <a:chExt cx="3777480" cy="501480"/>
          </a:xfrm>
        </p:grpSpPr>
        <p:sp>
          <p:nvSpPr>
            <p:cNvPr id="164" name=""/>
            <p:cNvSpPr/>
            <p:nvPr/>
          </p:nvSpPr>
          <p:spPr>
            <a:xfrm>
              <a:off x="3886200" y="2057400"/>
              <a:ext cx="2039760" cy="230040"/>
            </a:xfrm>
            <a:custGeom>
              <a:avLst/>
              <a:gdLst/>
              <a:ahLst/>
              <a:rect l="l" t="t" r="r" b="b"/>
              <a:pathLst>
                <a:path w="1285" h="145">
                  <a:moveTo>
                    <a:pt x="0" y="108"/>
                  </a:moveTo>
                  <a:lnTo>
                    <a:pt x="24" y="108"/>
                  </a:lnTo>
                  <a:lnTo>
                    <a:pt x="48" y="120"/>
                  </a:lnTo>
                  <a:lnTo>
                    <a:pt x="84" y="132"/>
                  </a:lnTo>
                  <a:lnTo>
                    <a:pt x="108" y="132"/>
                  </a:lnTo>
                  <a:lnTo>
                    <a:pt x="132" y="132"/>
                  </a:lnTo>
                  <a:lnTo>
                    <a:pt x="156" y="132"/>
                  </a:lnTo>
                  <a:lnTo>
                    <a:pt x="180" y="132"/>
                  </a:lnTo>
                  <a:lnTo>
                    <a:pt x="204" y="132"/>
                  </a:lnTo>
                  <a:lnTo>
                    <a:pt x="228" y="132"/>
                  </a:lnTo>
                  <a:lnTo>
                    <a:pt x="252" y="132"/>
                  </a:lnTo>
                  <a:lnTo>
                    <a:pt x="288" y="144"/>
                  </a:lnTo>
                  <a:lnTo>
                    <a:pt x="312" y="144"/>
                  </a:lnTo>
                  <a:lnTo>
                    <a:pt x="336" y="144"/>
                  </a:lnTo>
                  <a:lnTo>
                    <a:pt x="360" y="144"/>
                  </a:lnTo>
                  <a:lnTo>
                    <a:pt x="396" y="144"/>
                  </a:lnTo>
                  <a:lnTo>
                    <a:pt x="444" y="144"/>
                  </a:lnTo>
                  <a:lnTo>
                    <a:pt x="468" y="144"/>
                  </a:lnTo>
                  <a:lnTo>
                    <a:pt x="504" y="144"/>
                  </a:lnTo>
                  <a:lnTo>
                    <a:pt x="528" y="144"/>
                  </a:lnTo>
                  <a:lnTo>
                    <a:pt x="552" y="144"/>
                  </a:lnTo>
                  <a:lnTo>
                    <a:pt x="576" y="144"/>
                  </a:lnTo>
                  <a:lnTo>
                    <a:pt x="600" y="144"/>
                  </a:lnTo>
                  <a:lnTo>
                    <a:pt x="624" y="144"/>
                  </a:lnTo>
                  <a:lnTo>
                    <a:pt x="648" y="144"/>
                  </a:lnTo>
                  <a:lnTo>
                    <a:pt x="672" y="144"/>
                  </a:lnTo>
                  <a:lnTo>
                    <a:pt x="708" y="144"/>
                  </a:lnTo>
                  <a:lnTo>
                    <a:pt x="744" y="144"/>
                  </a:lnTo>
                  <a:lnTo>
                    <a:pt x="780" y="144"/>
                  </a:lnTo>
                  <a:lnTo>
                    <a:pt x="804" y="144"/>
                  </a:lnTo>
                  <a:lnTo>
                    <a:pt x="828" y="144"/>
                  </a:lnTo>
                  <a:lnTo>
                    <a:pt x="864" y="144"/>
                  </a:lnTo>
                  <a:lnTo>
                    <a:pt x="888" y="132"/>
                  </a:lnTo>
                  <a:lnTo>
                    <a:pt x="912" y="132"/>
                  </a:lnTo>
                  <a:lnTo>
                    <a:pt x="936" y="132"/>
                  </a:lnTo>
                  <a:lnTo>
                    <a:pt x="960" y="132"/>
                  </a:lnTo>
                  <a:lnTo>
                    <a:pt x="984" y="132"/>
                  </a:lnTo>
                  <a:lnTo>
                    <a:pt x="1008" y="132"/>
                  </a:lnTo>
                  <a:lnTo>
                    <a:pt x="1032" y="132"/>
                  </a:lnTo>
                  <a:lnTo>
                    <a:pt x="1068" y="132"/>
                  </a:lnTo>
                  <a:lnTo>
                    <a:pt x="1092" y="132"/>
                  </a:lnTo>
                  <a:lnTo>
                    <a:pt x="1116" y="120"/>
                  </a:lnTo>
                  <a:lnTo>
                    <a:pt x="1140" y="108"/>
                  </a:lnTo>
                  <a:lnTo>
                    <a:pt x="1164" y="84"/>
                  </a:lnTo>
                  <a:lnTo>
                    <a:pt x="1164" y="60"/>
                  </a:lnTo>
                  <a:lnTo>
                    <a:pt x="1164" y="36"/>
                  </a:lnTo>
                  <a:lnTo>
                    <a:pt x="1140" y="36"/>
                  </a:lnTo>
                  <a:lnTo>
                    <a:pt x="1140" y="60"/>
                  </a:lnTo>
                  <a:lnTo>
                    <a:pt x="1164" y="72"/>
                  </a:lnTo>
                  <a:lnTo>
                    <a:pt x="1188" y="72"/>
                  </a:lnTo>
                  <a:lnTo>
                    <a:pt x="1212" y="72"/>
                  </a:lnTo>
                  <a:lnTo>
                    <a:pt x="1236" y="60"/>
                  </a:lnTo>
                  <a:lnTo>
                    <a:pt x="1248" y="36"/>
                  </a:lnTo>
                  <a:lnTo>
                    <a:pt x="1272" y="24"/>
                  </a:lnTo>
                  <a:lnTo>
                    <a:pt x="1284" y="0"/>
                  </a:lnTo>
                </a:path>
              </a:pathLst>
            </a:custGeom>
            <a:noFill/>
            <a:ln cap="rnd"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3809520" y="2371680"/>
              <a:ext cx="238320" cy="125280"/>
              <a:chOff x="3809520" y="2371680"/>
              <a:chExt cx="238320" cy="125280"/>
            </a:xfrm>
          </p:grpSpPr>
          <p:sp>
            <p:nvSpPr>
              <p:cNvPr id="166" name=""/>
              <p:cNvSpPr/>
              <p:nvPr/>
            </p:nvSpPr>
            <p:spPr>
              <a:xfrm flipH="1">
                <a:off x="3809520" y="2371680"/>
                <a:ext cx="96840" cy="125280"/>
              </a:xfrm>
              <a:prstGeom prst="line">
                <a:avLst/>
              </a:prstGeom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908160" y="2371680"/>
                <a:ext cx="139680" cy="114120"/>
              </a:xfrm>
              <a:prstGeom prst="line">
                <a:avLst/>
              </a:prstGeom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6413400" y="1995480"/>
              <a:ext cx="1173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00"/>
                  </a:solidFill>
                  <a:latin typeface="Times New Roman"/>
                </a:rPr>
                <a:t>devised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90160" y="298080"/>
            <a:ext cx="8775720" cy="81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ne convention is to circle comments,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ut not added words or letters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5899320" y="3232080"/>
            <a:ext cx="2957400" cy="469800"/>
            <a:chOff x="5899320" y="3232080"/>
            <a:chExt cx="2957400" cy="469800"/>
          </a:xfrm>
        </p:grpSpPr>
        <p:sp>
          <p:nvSpPr>
            <p:cNvPr id="171" name=""/>
            <p:cNvSpPr/>
            <p:nvPr/>
          </p:nvSpPr>
          <p:spPr>
            <a:xfrm>
              <a:off x="6031080" y="3281400"/>
              <a:ext cx="2825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00"/>
                  </a:solidFill>
                  <a:latin typeface="Times New Roman"/>
                </a:rPr>
                <a:t>sentence too lo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899320" y="3232080"/>
              <a:ext cx="2127240" cy="469800"/>
            </a:xfrm>
            <a:prstGeom prst="ellipse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904680" y="2500200"/>
            <a:ext cx="6179040" cy="473040"/>
            <a:chOff x="904680" y="2500200"/>
            <a:chExt cx="6179040" cy="473040"/>
          </a:xfrm>
        </p:grpSpPr>
        <p:sp>
          <p:nvSpPr>
            <p:cNvPr id="174" name=""/>
            <p:cNvSpPr/>
            <p:nvPr/>
          </p:nvSpPr>
          <p:spPr>
            <a:xfrm>
              <a:off x="990720" y="2514600"/>
              <a:ext cx="1563480" cy="287280"/>
            </a:xfrm>
            <a:custGeom>
              <a:avLst/>
              <a:gdLst/>
              <a:ahLst/>
              <a:rect l="l" t="t" r="r" b="b"/>
              <a:pathLst>
                <a:path w="793" h="181">
                  <a:moveTo>
                    <a:pt x="0" y="156"/>
                  </a:moveTo>
                  <a:lnTo>
                    <a:pt x="24" y="156"/>
                  </a:lnTo>
                  <a:lnTo>
                    <a:pt x="48" y="156"/>
                  </a:lnTo>
                  <a:lnTo>
                    <a:pt x="72" y="156"/>
                  </a:lnTo>
                  <a:lnTo>
                    <a:pt x="96" y="156"/>
                  </a:lnTo>
                  <a:lnTo>
                    <a:pt x="120" y="156"/>
                  </a:lnTo>
                  <a:lnTo>
                    <a:pt x="144" y="156"/>
                  </a:lnTo>
                  <a:lnTo>
                    <a:pt x="180" y="156"/>
                  </a:lnTo>
                  <a:lnTo>
                    <a:pt x="204" y="156"/>
                  </a:lnTo>
                  <a:lnTo>
                    <a:pt x="228" y="156"/>
                  </a:lnTo>
                  <a:lnTo>
                    <a:pt x="252" y="168"/>
                  </a:lnTo>
                  <a:lnTo>
                    <a:pt x="276" y="168"/>
                  </a:lnTo>
                  <a:lnTo>
                    <a:pt x="300" y="180"/>
                  </a:lnTo>
                  <a:lnTo>
                    <a:pt x="324" y="180"/>
                  </a:lnTo>
                  <a:lnTo>
                    <a:pt x="348" y="180"/>
                  </a:lnTo>
                  <a:lnTo>
                    <a:pt x="372" y="180"/>
                  </a:lnTo>
                  <a:lnTo>
                    <a:pt x="396" y="180"/>
                  </a:lnTo>
                  <a:lnTo>
                    <a:pt x="420" y="180"/>
                  </a:lnTo>
                  <a:lnTo>
                    <a:pt x="444" y="180"/>
                  </a:lnTo>
                  <a:lnTo>
                    <a:pt x="468" y="180"/>
                  </a:lnTo>
                  <a:lnTo>
                    <a:pt x="504" y="180"/>
                  </a:lnTo>
                  <a:lnTo>
                    <a:pt x="528" y="180"/>
                  </a:lnTo>
                  <a:lnTo>
                    <a:pt x="564" y="180"/>
                  </a:lnTo>
                  <a:lnTo>
                    <a:pt x="588" y="180"/>
                  </a:lnTo>
                  <a:lnTo>
                    <a:pt x="612" y="180"/>
                  </a:lnTo>
                  <a:lnTo>
                    <a:pt x="636" y="180"/>
                  </a:lnTo>
                  <a:lnTo>
                    <a:pt x="672" y="180"/>
                  </a:lnTo>
                  <a:lnTo>
                    <a:pt x="696" y="180"/>
                  </a:lnTo>
                  <a:lnTo>
                    <a:pt x="720" y="168"/>
                  </a:lnTo>
                  <a:lnTo>
                    <a:pt x="744" y="144"/>
                  </a:lnTo>
                  <a:lnTo>
                    <a:pt x="756" y="120"/>
                  </a:lnTo>
                  <a:lnTo>
                    <a:pt x="756" y="96"/>
                  </a:lnTo>
                  <a:lnTo>
                    <a:pt x="744" y="72"/>
                  </a:lnTo>
                  <a:lnTo>
                    <a:pt x="744" y="48"/>
                  </a:lnTo>
                  <a:lnTo>
                    <a:pt x="720" y="48"/>
                  </a:lnTo>
                  <a:lnTo>
                    <a:pt x="708" y="72"/>
                  </a:lnTo>
                  <a:lnTo>
                    <a:pt x="732" y="72"/>
                  </a:lnTo>
                  <a:lnTo>
                    <a:pt x="756" y="60"/>
                  </a:lnTo>
                  <a:lnTo>
                    <a:pt x="768" y="36"/>
                  </a:lnTo>
                  <a:lnTo>
                    <a:pt x="792" y="24"/>
                  </a:lnTo>
                  <a:lnTo>
                    <a:pt x="792" y="0"/>
                  </a:lnTo>
                </a:path>
              </a:pathLst>
            </a:custGeom>
            <a:noFill/>
            <a:ln cap="rnd"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528960" y="2500200"/>
              <a:ext cx="554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00"/>
                  </a:solidFill>
                  <a:latin typeface="Times New Roman"/>
                </a:rPr>
                <a:t>f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904680" y="2847960"/>
              <a:ext cx="238320" cy="125280"/>
              <a:chOff x="904680" y="2847960"/>
              <a:chExt cx="238320" cy="125280"/>
            </a:xfrm>
          </p:grpSpPr>
          <p:sp>
            <p:nvSpPr>
              <p:cNvPr id="177" name=""/>
              <p:cNvSpPr/>
              <p:nvPr/>
            </p:nvSpPr>
            <p:spPr>
              <a:xfrm flipH="1">
                <a:off x="904680" y="2847960"/>
                <a:ext cx="96840" cy="125280"/>
              </a:xfrm>
              <a:prstGeom prst="line">
                <a:avLst/>
              </a:prstGeom>
              <a:ln w="255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003320" y="2847960"/>
                <a:ext cx="139680" cy="114120"/>
              </a:xfrm>
              <a:prstGeom prst="line">
                <a:avLst/>
              </a:prstGeom>
              <a:ln w="255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9" name=""/>
          <p:cNvGrpSpPr/>
          <p:nvPr/>
        </p:nvGrpSpPr>
        <p:grpSpPr>
          <a:xfrm>
            <a:off x="2018880" y="3778560"/>
            <a:ext cx="7101360" cy="690120"/>
            <a:chOff x="2018880" y="3778560"/>
            <a:chExt cx="7101360" cy="690120"/>
          </a:xfrm>
        </p:grpSpPr>
        <p:sp>
          <p:nvSpPr>
            <p:cNvPr id="180" name=""/>
            <p:cNvSpPr/>
            <p:nvPr/>
          </p:nvSpPr>
          <p:spPr>
            <a:xfrm>
              <a:off x="5835600" y="4311720"/>
              <a:ext cx="25560" cy="19080"/>
            </a:xfrm>
            <a:prstGeom prst="ellipse">
              <a:avLst/>
            </a:prstGeom>
            <a:solidFill>
              <a:srgbClr val="9900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746680" y="4229280"/>
              <a:ext cx="203400" cy="171360"/>
            </a:xfrm>
            <a:prstGeom prst="ellipse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869440" y="3979800"/>
              <a:ext cx="3250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00"/>
                  </a:solidFill>
                  <a:latin typeface="Times New Roman"/>
                </a:rPr>
                <a:t>This construction / #the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209680" y="3778560"/>
              <a:ext cx="569520" cy="488520"/>
              <a:chOff x="2209680" y="3778560"/>
              <a:chExt cx="569520" cy="488520"/>
            </a:xfrm>
          </p:grpSpPr>
          <p:sp>
            <p:nvSpPr>
              <p:cNvPr id="184" name=""/>
              <p:cNvSpPr/>
              <p:nvPr/>
            </p:nvSpPr>
            <p:spPr>
              <a:xfrm flipV="1">
                <a:off x="2209680" y="4173480"/>
                <a:ext cx="424080" cy="93600"/>
              </a:xfrm>
              <a:prstGeom prst="line">
                <a:avLst/>
              </a:prstGeom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620800" y="4102200"/>
                <a:ext cx="88920" cy="69840"/>
              </a:xfrm>
              <a:prstGeom prst="ellipse">
                <a:avLst/>
              </a:prstGeom>
              <a:noFill/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576520" y="3778560"/>
                <a:ext cx="202680" cy="36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018880" y="4334040"/>
              <a:ext cx="238320" cy="125280"/>
              <a:chOff x="2018880" y="4334040"/>
              <a:chExt cx="238320" cy="125280"/>
            </a:xfrm>
          </p:grpSpPr>
          <p:sp>
            <p:nvSpPr>
              <p:cNvPr id="188" name=""/>
              <p:cNvSpPr/>
              <p:nvPr/>
            </p:nvSpPr>
            <p:spPr>
              <a:xfrm flipH="1">
                <a:off x="2018880" y="4334040"/>
                <a:ext cx="96840" cy="125280"/>
              </a:xfrm>
              <a:prstGeom prst="line">
                <a:avLst/>
              </a:prstGeom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117520" y="4334040"/>
                <a:ext cx="139680" cy="114120"/>
              </a:xfrm>
              <a:prstGeom prst="line">
                <a:avLst/>
              </a:prstGeom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181120" y="4343400"/>
              <a:ext cx="238320" cy="125280"/>
              <a:chOff x="5181120" y="4343400"/>
              <a:chExt cx="238320" cy="125280"/>
            </a:xfrm>
          </p:grpSpPr>
          <p:sp>
            <p:nvSpPr>
              <p:cNvPr id="191" name=""/>
              <p:cNvSpPr/>
              <p:nvPr/>
            </p:nvSpPr>
            <p:spPr>
              <a:xfrm flipH="1">
                <a:off x="5181120" y="4343400"/>
                <a:ext cx="96840" cy="125280"/>
              </a:xfrm>
              <a:prstGeom prst="line">
                <a:avLst/>
              </a:prstGeom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279760" y="4343400"/>
                <a:ext cx="139680" cy="114120"/>
              </a:xfrm>
              <a:prstGeom prst="line">
                <a:avLst/>
              </a:prstGeom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3" name=""/>
          <p:cNvGrpSpPr/>
          <p:nvPr/>
        </p:nvGrpSpPr>
        <p:grpSpPr>
          <a:xfrm>
            <a:off x="304920" y="4952880"/>
            <a:ext cx="7346880" cy="1904400"/>
            <a:chOff x="304920" y="4952880"/>
            <a:chExt cx="7346880" cy="1904400"/>
          </a:xfrm>
        </p:grpSpPr>
        <p:sp>
          <p:nvSpPr>
            <p:cNvPr id="194" name=""/>
            <p:cNvSpPr/>
            <p:nvPr/>
          </p:nvSpPr>
          <p:spPr>
            <a:xfrm>
              <a:off x="304920" y="6219720"/>
              <a:ext cx="56386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00"/>
                  </a:solidFill>
                  <a:latin typeface="Times New Roman"/>
                </a:rPr>
                <a:t>*au: are you implying that Chem E contamina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00"/>
                  </a:solidFill>
                  <a:latin typeface="Times New Roman"/>
                </a:rPr>
                <a:t>the soil?   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72200" y="4952880"/>
              <a:ext cx="1479600" cy="609840"/>
            </a:xfrm>
            <a:prstGeom prst="ellipse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04920" y="6172200"/>
              <a:ext cx="48765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555240" y="5067360"/>
              <a:ext cx="53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00"/>
                  </a:solidFill>
                  <a:latin typeface="Times New Roman"/>
                </a:rPr>
                <a:t>au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8524800" y="6018120"/>
            <a:ext cx="542880" cy="820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15920" y="173160"/>
            <a:ext cx="87994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ducing the friction between editors and authors calls for action on both si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800600" y="1752480"/>
            <a:ext cx="3886200" cy="3574800"/>
            <a:chOff x="4800600" y="1752480"/>
            <a:chExt cx="3886200" cy="3574800"/>
          </a:xfrm>
        </p:grpSpPr>
        <p:sp>
          <p:nvSpPr>
            <p:cNvPr id="201" name=""/>
            <p:cNvSpPr/>
            <p:nvPr/>
          </p:nvSpPr>
          <p:spPr>
            <a:xfrm>
              <a:off x="4800600" y="2952360"/>
              <a:ext cx="3886200" cy="237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dentifying pet peev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Negotiating gray area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stablishing boundari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trolling ton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nderstanding author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545800" y="1752480"/>
              <a:ext cx="1231560" cy="454680"/>
            </a:xfrm>
            <a:prstGeom prst="rect">
              <a:avLst/>
            </a:prstGeom>
            <a:solidFill>
              <a:srgbClr val="99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ditor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1040040" y="1771560"/>
            <a:ext cx="1348920" cy="454680"/>
          </a:xfrm>
          <a:prstGeom prst="rect">
            <a:avLst/>
          </a:prstGeom>
          <a:solidFill>
            <a:srgbClr val="99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th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2971800"/>
            <a:ext cx="38862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dentifying constrai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bmitting outlines e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otting time for edi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ling over criticis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8524800" y="6018120"/>
            <a:ext cx="542880" cy="820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3720" y="61560"/>
            <a:ext cx="8661240" cy="94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et peeves are those rules that you enforce more strictly than other editors do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0520" y="1206360"/>
            <a:ext cx="908064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4080" y="1620720"/>
            <a:ext cx="8650080" cy="45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ked “this”—av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reaucratic nouns—av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wever” to join two independent clauses—av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ies comma—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clamation point—av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8524800" y="6018120"/>
            <a:ext cx="542880" cy="820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380960" y="303120"/>
            <a:ext cx="63579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39680" y="144360"/>
            <a:ext cx="8775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hen editing someone’s writing, consider t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78600" y="3048120"/>
            <a:ext cx="30099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dit one another 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would wish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 edi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320" y="3352680"/>
            <a:ext cx="20574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d w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posi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8524800" y="6018120"/>
            <a:ext cx="542880" cy="820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15" name=""/>
          <p:cNvSpPr/>
          <p:nvPr/>
        </p:nvSpPr>
        <p:spPr>
          <a:xfrm>
            <a:off x="2133720" y="1981080"/>
            <a:ext cx="1676160" cy="4267440"/>
          </a:xfrm>
          <a:custGeom>
            <a:avLst/>
            <a:gdLst>
              <a:gd name="textAreaLeft" fmla="*/ 224280 w 1676160"/>
              <a:gd name="textAreaRight" fmla="*/ 1451880 w 1676160"/>
              <a:gd name="textAreaTop" fmla="*/ 746640 h 4267440"/>
              <a:gd name="textAreaBottom" fmla="*/ 3093840 h 426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4266360" y="1981080"/>
            <a:ext cx="1676520" cy="4267440"/>
          </a:xfrm>
          <a:custGeom>
            <a:avLst/>
            <a:gdLst>
              <a:gd name="textAreaLeft" fmla="*/ 224640 w 1676520"/>
              <a:gd name="textAreaRight" fmla="*/ 1451880 w 1676520"/>
              <a:gd name="textAreaTop" fmla="*/ 746640 h 4267440"/>
              <a:gd name="textAreaBottom" fmla="*/ 3093840 h 426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06040" y="133524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di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449880" y="609588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th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080" y="114480"/>
            <a:ext cx="84780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lthough editing is a large subject, we will focu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n the editing that occurs in the sign-off pro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8760" y="1530360"/>
            <a:ext cx="8597880" cy="47941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39280" y="2190600"/>
            <a:ext cx="313056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diting docume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view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ne edi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line edi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ofrea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41800" y="4495680"/>
            <a:ext cx="394128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ducing fricti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tions by author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tions by edi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524800" y="6018120"/>
            <a:ext cx="542880" cy="820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1280" y="146160"/>
            <a:ext cx="7323120" cy="81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efore editing someone’s document,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you should first consider your constraints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156440" y="3649680"/>
            <a:ext cx="1238400" cy="67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7880" y="6184800"/>
            <a:ext cx="2076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ther Edi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f Docu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798040" y="6524640"/>
            <a:ext cx="264960" cy="3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0440" y="2222640"/>
            <a:ext cx="1989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di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f Docu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775920" y="2222640"/>
            <a:ext cx="16164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mat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cu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73040" y="4051440"/>
            <a:ext cx="19591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mality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cu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0800" y="4044960"/>
            <a:ext cx="1684800" cy="9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cess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blish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cu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636880" y="6184800"/>
            <a:ext cx="18388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litics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th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400480" y="2087640"/>
            <a:ext cx="4012920" cy="3927240"/>
            <a:chOff x="2400480" y="2087640"/>
            <a:chExt cx="4012920" cy="3927240"/>
          </a:xfrm>
        </p:grpSpPr>
        <p:sp>
          <p:nvSpPr>
            <p:cNvPr id="60" name=""/>
            <p:cNvSpPr/>
            <p:nvPr/>
          </p:nvSpPr>
          <p:spPr>
            <a:xfrm>
              <a:off x="2532240" y="2101680"/>
              <a:ext cx="3881160" cy="389448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448000" y="2101680"/>
              <a:ext cx="9360" cy="3911760"/>
            </a:xfrm>
            <a:prstGeom prst="line">
              <a:avLst/>
            </a:prstGeom>
            <a:ln w="50760">
              <a:solidFill>
                <a:srgbClr val="99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400480" y="2087640"/>
              <a:ext cx="2880" cy="392724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645000" y="2859120"/>
              <a:ext cx="1517400" cy="45072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524800" y="6018120"/>
            <a:ext cx="542880" cy="820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" y="304920"/>
            <a:ext cx="838188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ree aspects of the writing affect the way that editors assess docu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05520" y="1562040"/>
            <a:ext cx="2819160" cy="1067040"/>
          </a:xfrm>
          <a:prstGeom prst="rightArrow">
            <a:avLst>
              <a:gd name="adj1" fmla="val 50000"/>
              <a:gd name="adj2" fmla="val 66051"/>
            </a:avLst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05520" y="3276720"/>
            <a:ext cx="2819160" cy="1066680"/>
          </a:xfrm>
          <a:prstGeom prst="rightArrow">
            <a:avLst>
              <a:gd name="adj1" fmla="val 50000"/>
              <a:gd name="adj2" fmla="val 66073"/>
            </a:avLst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y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05520" y="5029200"/>
            <a:ext cx="2819160" cy="1066680"/>
          </a:xfrm>
          <a:prstGeom prst="rightArrow">
            <a:avLst>
              <a:gd name="adj1" fmla="val 50000"/>
              <a:gd name="adj2" fmla="val 66073"/>
            </a:avLst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380880" y="1905120"/>
            <a:ext cx="4012920" cy="3927240"/>
            <a:chOff x="380880" y="1905120"/>
            <a:chExt cx="4012920" cy="3927240"/>
          </a:xfrm>
        </p:grpSpPr>
        <p:sp>
          <p:nvSpPr>
            <p:cNvPr id="70" name=""/>
            <p:cNvSpPr/>
            <p:nvPr/>
          </p:nvSpPr>
          <p:spPr>
            <a:xfrm>
              <a:off x="512640" y="1919160"/>
              <a:ext cx="3881160" cy="389448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28400" y="1919160"/>
              <a:ext cx="9360" cy="3911760"/>
            </a:xfrm>
            <a:prstGeom prst="line">
              <a:avLst/>
            </a:prstGeom>
            <a:ln w="50760">
              <a:solidFill>
                <a:srgbClr val="99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80880" y="1905120"/>
              <a:ext cx="2880" cy="392724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625400" y="2676600"/>
              <a:ext cx="1517400" cy="45072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8524800" y="6018120"/>
            <a:ext cx="542880" cy="820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14200" y="76320"/>
            <a:ext cx="877572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diting for content involves decid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hat message to se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5715000" y="3429000"/>
            <a:ext cx="2362320" cy="2209680"/>
            <a:chOff x="5715000" y="3429000"/>
            <a:chExt cx="2362320" cy="2209680"/>
          </a:xfrm>
        </p:grpSpPr>
        <p:sp>
          <p:nvSpPr>
            <p:cNvPr id="77" name=""/>
            <p:cNvSpPr/>
            <p:nvPr/>
          </p:nvSpPr>
          <p:spPr>
            <a:xfrm>
              <a:off x="5715000" y="3429000"/>
              <a:ext cx="2362320" cy="2209680"/>
            </a:xfrm>
            <a:prstGeom prst="ellipse">
              <a:avLst/>
            </a:prstGeom>
            <a:solidFill>
              <a:srgbClr val="79001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024600" y="3986280"/>
              <a:ext cx="1705320" cy="1186200"/>
            </a:xfrm>
            <a:prstGeom prst="rect">
              <a:avLst/>
            </a:prstGeom>
            <a:solidFill>
              <a:srgbClr val="7900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s th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t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mplete?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457200" y="3200400"/>
            <a:ext cx="2362320" cy="2286000"/>
            <a:chOff x="457200" y="3200400"/>
            <a:chExt cx="2362320" cy="2286000"/>
          </a:xfrm>
        </p:grpSpPr>
        <p:sp>
          <p:nvSpPr>
            <p:cNvPr id="80" name=""/>
            <p:cNvSpPr/>
            <p:nvPr/>
          </p:nvSpPr>
          <p:spPr>
            <a:xfrm>
              <a:off x="457200" y="3200400"/>
              <a:ext cx="2362320" cy="2286000"/>
            </a:xfrm>
            <a:prstGeom prst="ellipse">
              <a:avLst/>
            </a:prstGeom>
            <a:solidFill>
              <a:srgbClr val="1f4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21240" y="3719520"/>
              <a:ext cx="140076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s th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t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rrect?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3048120" y="1600200"/>
            <a:ext cx="2666880" cy="2286000"/>
            <a:chOff x="3048120" y="1600200"/>
            <a:chExt cx="2666880" cy="2286000"/>
          </a:xfrm>
        </p:grpSpPr>
        <p:sp>
          <p:nvSpPr>
            <p:cNvPr id="83" name=""/>
            <p:cNvSpPr/>
            <p:nvPr/>
          </p:nvSpPr>
          <p:spPr>
            <a:xfrm>
              <a:off x="3048120" y="1600200"/>
              <a:ext cx="2666880" cy="2286000"/>
            </a:xfrm>
            <a:prstGeom prst="ellipse">
              <a:avLst/>
            </a:prstGeom>
            <a:solidFill>
              <a:srgbClr val="50009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63840" y="2119320"/>
              <a:ext cx="2043720" cy="1186200"/>
            </a:xfrm>
            <a:prstGeom prst="rect">
              <a:avLst/>
            </a:prstGeom>
            <a:solidFill>
              <a:srgbClr val="500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s the 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t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ppropriate?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524800" y="6018120"/>
            <a:ext cx="542880" cy="820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85760" y="279360"/>
            <a:ext cx="697716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diting for style involves deciding how to communicate the mess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3321000" y="1797120"/>
            <a:ext cx="1968480" cy="1968480"/>
            <a:chOff x="3321000" y="1797120"/>
            <a:chExt cx="1968480" cy="1968480"/>
          </a:xfrm>
        </p:grpSpPr>
        <p:sp>
          <p:nvSpPr>
            <p:cNvPr id="88" name=""/>
            <p:cNvSpPr/>
            <p:nvPr/>
          </p:nvSpPr>
          <p:spPr>
            <a:xfrm>
              <a:off x="3321000" y="1797120"/>
              <a:ext cx="1968480" cy="1968480"/>
            </a:xfrm>
            <a:prstGeom prst="ellipse">
              <a:avLst/>
            </a:prstGeom>
            <a:solidFill>
              <a:srgbClr val="79001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538080" y="2309760"/>
              <a:ext cx="1534680" cy="820440"/>
            </a:xfrm>
            <a:prstGeom prst="rect">
              <a:avLst/>
            </a:prstGeom>
            <a:solidFill>
              <a:srgbClr val="7900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ocus 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anguag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5854680" y="3587760"/>
            <a:ext cx="1968480" cy="1968480"/>
            <a:chOff x="5854680" y="3587760"/>
            <a:chExt cx="1968480" cy="1968480"/>
          </a:xfrm>
        </p:grpSpPr>
        <p:sp>
          <p:nvSpPr>
            <p:cNvPr id="91" name=""/>
            <p:cNvSpPr/>
            <p:nvPr/>
          </p:nvSpPr>
          <p:spPr>
            <a:xfrm>
              <a:off x="5854680" y="3587760"/>
              <a:ext cx="1968480" cy="1968480"/>
            </a:xfrm>
            <a:prstGeom prst="ellipse">
              <a:avLst/>
            </a:prstGeom>
            <a:solidFill>
              <a:srgbClr val="1f4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69520" y="4100400"/>
              <a:ext cx="1742040" cy="820440"/>
            </a:xfrm>
            <a:prstGeom prst="rect">
              <a:avLst/>
            </a:prstGeom>
            <a:solidFill>
              <a:srgbClr val="1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ocus 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llustr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844560" y="3473280"/>
            <a:ext cx="1968480" cy="1968840"/>
            <a:chOff x="844560" y="3473280"/>
            <a:chExt cx="1968480" cy="1968840"/>
          </a:xfrm>
        </p:grpSpPr>
        <p:sp>
          <p:nvSpPr>
            <p:cNvPr id="94" name=""/>
            <p:cNvSpPr/>
            <p:nvPr/>
          </p:nvSpPr>
          <p:spPr>
            <a:xfrm>
              <a:off x="844560" y="3473280"/>
              <a:ext cx="1968480" cy="1968840"/>
            </a:xfrm>
            <a:prstGeom prst="ellipse">
              <a:avLst/>
            </a:prstGeom>
            <a:solidFill>
              <a:srgbClr val="50009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061640" y="3986280"/>
              <a:ext cx="1534680" cy="820440"/>
            </a:xfrm>
            <a:prstGeom prst="rect">
              <a:avLst/>
            </a:prstGeom>
            <a:solidFill>
              <a:srgbClr val="500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ocus 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ructur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524800" y="6018120"/>
            <a:ext cx="542880" cy="820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380960" y="303120"/>
            <a:ext cx="63579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4200" y="76320"/>
            <a:ext cx="717732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diting for form concerns whether the communication is properly presen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371600" y="2514600"/>
            <a:ext cx="1968480" cy="1968480"/>
            <a:chOff x="1371600" y="2514600"/>
            <a:chExt cx="1968480" cy="1968480"/>
          </a:xfrm>
        </p:grpSpPr>
        <p:sp>
          <p:nvSpPr>
            <p:cNvPr id="100" name=""/>
            <p:cNvSpPr/>
            <p:nvPr/>
          </p:nvSpPr>
          <p:spPr>
            <a:xfrm>
              <a:off x="1371600" y="2514600"/>
              <a:ext cx="1968480" cy="1968480"/>
            </a:xfrm>
            <a:prstGeom prst="ellipse">
              <a:avLst/>
            </a:prstGeom>
            <a:solidFill>
              <a:srgbClr val="99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588680" y="3027240"/>
              <a:ext cx="15346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ocus 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ramma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3111480" y="1295280"/>
            <a:ext cx="1968480" cy="1968480"/>
            <a:chOff x="3111480" y="1295280"/>
            <a:chExt cx="1968480" cy="1968480"/>
          </a:xfrm>
        </p:grpSpPr>
        <p:sp>
          <p:nvSpPr>
            <p:cNvPr id="103" name=""/>
            <p:cNvSpPr/>
            <p:nvPr/>
          </p:nvSpPr>
          <p:spPr>
            <a:xfrm>
              <a:off x="3111480" y="1295280"/>
              <a:ext cx="1968480" cy="19684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132360" y="1807920"/>
              <a:ext cx="19249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ocus 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unctu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788000" y="2514600"/>
            <a:ext cx="1968480" cy="1968480"/>
            <a:chOff x="4788000" y="2514600"/>
            <a:chExt cx="1968480" cy="1968480"/>
          </a:xfrm>
        </p:grpSpPr>
        <p:sp>
          <p:nvSpPr>
            <p:cNvPr id="106" name=""/>
            <p:cNvSpPr/>
            <p:nvPr/>
          </p:nvSpPr>
          <p:spPr>
            <a:xfrm>
              <a:off x="4788000" y="2514600"/>
              <a:ext cx="1968480" cy="19684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005080" y="3027600"/>
              <a:ext cx="1534680" cy="8204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ocus 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sag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28600" y="4267080"/>
            <a:ext cx="1968480" cy="1968480"/>
            <a:chOff x="228600" y="4267080"/>
            <a:chExt cx="1968480" cy="1968480"/>
          </a:xfrm>
        </p:grpSpPr>
        <p:sp>
          <p:nvSpPr>
            <p:cNvPr id="109" name=""/>
            <p:cNvSpPr/>
            <p:nvPr/>
          </p:nvSpPr>
          <p:spPr>
            <a:xfrm>
              <a:off x="228600" y="4267080"/>
              <a:ext cx="1968480" cy="1968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45680" y="4779720"/>
              <a:ext cx="15346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ocus 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orma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5854680" y="4343400"/>
            <a:ext cx="1968480" cy="1968480"/>
            <a:chOff x="5854680" y="4343400"/>
            <a:chExt cx="1968480" cy="1968480"/>
          </a:xfrm>
        </p:grpSpPr>
        <p:sp>
          <p:nvSpPr>
            <p:cNvPr id="112" name=""/>
            <p:cNvSpPr/>
            <p:nvPr/>
          </p:nvSpPr>
          <p:spPr>
            <a:xfrm>
              <a:off x="5854680" y="4343400"/>
              <a:ext cx="1968480" cy="1968480"/>
            </a:xfrm>
            <a:prstGeom prst="ellipse">
              <a:avLst/>
            </a:prstGeom>
            <a:solidFill>
              <a:srgbClr val="50009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109920" y="4932360"/>
              <a:ext cx="1534680" cy="820440"/>
            </a:xfrm>
            <a:prstGeom prst="rect">
              <a:avLst/>
            </a:prstGeom>
            <a:solidFill>
              <a:srgbClr val="500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ocus 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pell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524800" y="6018120"/>
            <a:ext cx="542880" cy="820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04920" y="1203480"/>
            <a:ext cx="86868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58960" y="4610160"/>
            <a:ext cx="71229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252600" y="4624560"/>
            <a:ext cx="1268280" cy="14968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71920" y="4700520"/>
            <a:ext cx="1116000" cy="14209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328920" y="6172200"/>
            <a:ext cx="22590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826160" y="2806560"/>
            <a:ext cx="1815840" cy="1739880"/>
            <a:chOff x="4826160" y="2806560"/>
            <a:chExt cx="1815840" cy="1739880"/>
          </a:xfrm>
        </p:grpSpPr>
        <p:sp>
          <p:nvSpPr>
            <p:cNvPr id="121" name=""/>
            <p:cNvSpPr/>
            <p:nvPr/>
          </p:nvSpPr>
          <p:spPr>
            <a:xfrm>
              <a:off x="4826160" y="2806560"/>
              <a:ext cx="1815840" cy="1739880"/>
            </a:xfrm>
            <a:prstGeom prst="ellipse">
              <a:avLst/>
            </a:prstGeom>
            <a:solidFill>
              <a:srgbClr val="99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20200" y="3147840"/>
              <a:ext cx="1428120" cy="911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isposi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o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Wri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2444760" y="2787480"/>
            <a:ext cx="1816200" cy="1740240"/>
            <a:chOff x="2444760" y="2787480"/>
            <a:chExt cx="1816200" cy="1740240"/>
          </a:xfrm>
        </p:grpSpPr>
        <p:sp>
          <p:nvSpPr>
            <p:cNvPr id="124" name=""/>
            <p:cNvSpPr/>
            <p:nvPr/>
          </p:nvSpPr>
          <p:spPr>
            <a:xfrm>
              <a:off x="2444760" y="2787480"/>
              <a:ext cx="1816200" cy="1740240"/>
            </a:xfrm>
            <a:prstGeom prst="ellipse">
              <a:avLst/>
            </a:prstGeom>
            <a:solidFill>
              <a:srgbClr val="99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83000" y="3129120"/>
              <a:ext cx="153936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onsistenc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o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hang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139680" y="2787480"/>
            <a:ext cx="1816200" cy="1740240"/>
            <a:chOff x="139680" y="2787480"/>
            <a:chExt cx="1816200" cy="1740240"/>
          </a:xfrm>
        </p:grpSpPr>
        <p:sp>
          <p:nvSpPr>
            <p:cNvPr id="127" name=""/>
            <p:cNvSpPr/>
            <p:nvPr/>
          </p:nvSpPr>
          <p:spPr>
            <a:xfrm>
              <a:off x="139680" y="2787480"/>
              <a:ext cx="1816200" cy="1740240"/>
            </a:xfrm>
            <a:prstGeom prst="ellipse">
              <a:avLst/>
            </a:prstGeom>
            <a:solidFill>
              <a:srgbClr val="99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43080" y="3110040"/>
              <a:ext cx="1413000" cy="911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mportanc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o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hang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6959520" y="2787480"/>
            <a:ext cx="1816200" cy="1740240"/>
            <a:chOff x="6959520" y="2787480"/>
            <a:chExt cx="1816200" cy="1740240"/>
          </a:xfrm>
        </p:grpSpPr>
        <p:sp>
          <p:nvSpPr>
            <p:cNvPr id="130" name=""/>
            <p:cNvSpPr/>
            <p:nvPr/>
          </p:nvSpPr>
          <p:spPr>
            <a:xfrm>
              <a:off x="6959520" y="2787480"/>
              <a:ext cx="1816200" cy="1740240"/>
            </a:xfrm>
            <a:prstGeom prst="ellipse">
              <a:avLst/>
            </a:prstGeom>
            <a:solidFill>
              <a:srgbClr val="99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287840" y="3071880"/>
              <a:ext cx="1159920" cy="911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ifficul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o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hang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195120" y="114480"/>
            <a:ext cx="877572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hat variables determine how mu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ange you mak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8524800" y="6018120"/>
            <a:ext cx="542880" cy="820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14200" y="76320"/>
            <a:ext cx="877572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well-done edit has three characteristic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arity, consistency, and hierarch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6323400" y="1573200"/>
            <a:ext cx="2240280" cy="4344840"/>
            <a:chOff x="6323400" y="1573200"/>
            <a:chExt cx="2240280" cy="4344840"/>
          </a:xfrm>
        </p:grpSpPr>
        <p:sp>
          <p:nvSpPr>
            <p:cNvPr id="136" name=""/>
            <p:cNvSpPr/>
            <p:nvPr/>
          </p:nvSpPr>
          <p:spPr>
            <a:xfrm>
              <a:off x="6323400" y="1573200"/>
              <a:ext cx="22402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hierarchy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6403680" y="2330280"/>
              <a:ext cx="1607760" cy="1301760"/>
              <a:chOff x="6403680" y="2330280"/>
              <a:chExt cx="1607760" cy="1301760"/>
            </a:xfrm>
          </p:grpSpPr>
          <p:sp>
            <p:nvSpPr>
              <p:cNvPr id="138" name=""/>
              <p:cNvSpPr/>
              <p:nvPr/>
            </p:nvSpPr>
            <p:spPr>
              <a:xfrm>
                <a:off x="6403680" y="2330280"/>
                <a:ext cx="1587600" cy="1301760"/>
              </a:xfrm>
              <a:prstGeom prst="ellipse">
                <a:avLst/>
              </a:prstGeom>
              <a:solidFill>
                <a:srgbClr val="7900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423480" y="2521080"/>
                <a:ext cx="1587960" cy="82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mos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importan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6553080" y="3873600"/>
              <a:ext cx="1260360" cy="977760"/>
              <a:chOff x="6553080" y="3873600"/>
              <a:chExt cx="1260360" cy="977760"/>
            </a:xfrm>
          </p:grpSpPr>
          <p:sp>
            <p:nvSpPr>
              <p:cNvPr id="141" name=""/>
              <p:cNvSpPr/>
              <p:nvPr/>
            </p:nvSpPr>
            <p:spPr>
              <a:xfrm>
                <a:off x="6555960" y="3873600"/>
                <a:ext cx="1225800" cy="977760"/>
              </a:xfrm>
              <a:prstGeom prst="ellipse">
                <a:avLst/>
              </a:prstGeom>
              <a:solidFill>
                <a:srgbClr val="7900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553080" y="4073400"/>
                <a:ext cx="126036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next mos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importan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6685560" y="5149800"/>
              <a:ext cx="1002960" cy="768240"/>
              <a:chOff x="6685560" y="5149800"/>
              <a:chExt cx="1002960" cy="768240"/>
            </a:xfrm>
          </p:grpSpPr>
          <p:sp>
            <p:nvSpPr>
              <p:cNvPr id="144" name=""/>
              <p:cNvSpPr/>
              <p:nvPr/>
            </p:nvSpPr>
            <p:spPr>
              <a:xfrm>
                <a:off x="6727680" y="5149800"/>
                <a:ext cx="901440" cy="768240"/>
              </a:xfrm>
              <a:prstGeom prst="ellipse">
                <a:avLst/>
              </a:prstGeom>
              <a:solidFill>
                <a:srgbClr val="7900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685560" y="5278320"/>
                <a:ext cx="1002960" cy="51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lea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mportan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6" name=""/>
          <p:cNvGrpSpPr/>
          <p:nvPr/>
        </p:nvGrpSpPr>
        <p:grpSpPr>
          <a:xfrm>
            <a:off x="2818800" y="1562040"/>
            <a:ext cx="2824200" cy="2770920"/>
            <a:chOff x="2818800" y="1562040"/>
            <a:chExt cx="2824200" cy="2770920"/>
          </a:xfrm>
        </p:grpSpPr>
        <p:sp>
          <p:nvSpPr>
            <p:cNvPr id="147" name=""/>
            <p:cNvSpPr/>
            <p:nvPr/>
          </p:nvSpPr>
          <p:spPr>
            <a:xfrm>
              <a:off x="2818800" y="1562040"/>
              <a:ext cx="28242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consistency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76720" y="2766960"/>
              <a:ext cx="995400" cy="15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ffec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ffec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ffec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ffec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3419640" y="3957480"/>
              <a:ext cx="42840" cy="2779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3241800" y="4237200"/>
              <a:ext cx="169200" cy="55440"/>
              <a:chOff x="3241800" y="4237200"/>
              <a:chExt cx="169200" cy="55440"/>
            </a:xfrm>
          </p:grpSpPr>
          <p:sp>
            <p:nvSpPr>
              <p:cNvPr id="151" name=""/>
              <p:cNvSpPr/>
              <p:nvPr/>
            </p:nvSpPr>
            <p:spPr>
              <a:xfrm flipH="1">
                <a:off x="3241800" y="4237200"/>
                <a:ext cx="118800" cy="42840"/>
              </a:xfrm>
              <a:prstGeom prst="line">
                <a:avLst/>
              </a:prstGeom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362040" y="4237200"/>
                <a:ext cx="48960" cy="55440"/>
              </a:xfrm>
              <a:prstGeom prst="line">
                <a:avLst/>
              </a:prstGeom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4317480" y="3878280"/>
              <a:ext cx="317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175680" y="1581120"/>
            <a:ext cx="1757160" cy="2765160"/>
            <a:chOff x="175680" y="1581120"/>
            <a:chExt cx="1757160" cy="2765160"/>
          </a:xfrm>
        </p:grpSpPr>
        <p:sp>
          <p:nvSpPr>
            <p:cNvPr id="155" name=""/>
            <p:cNvSpPr/>
            <p:nvPr/>
          </p:nvSpPr>
          <p:spPr>
            <a:xfrm>
              <a:off x="175680" y="1581120"/>
              <a:ext cx="1528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clarity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5680" y="3600360"/>
              <a:ext cx="17571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deletee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1482480" y="2187360"/>
              <a:ext cx="291960" cy="2158920"/>
              <a:chOff x="1482480" y="2187360"/>
              <a:chExt cx="291960" cy="2158920"/>
            </a:xfrm>
          </p:grpSpPr>
          <p:sp>
            <p:nvSpPr>
              <p:cNvPr id="158" name=""/>
              <p:cNvSpPr/>
              <p:nvPr/>
            </p:nvSpPr>
            <p:spPr>
              <a:xfrm>
                <a:off x="1482480" y="2607120"/>
                <a:ext cx="253800" cy="173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603440" y="3432240"/>
                <a:ext cx="145800" cy="14616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673280" y="2187360"/>
                <a:ext cx="101160" cy="135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8524800" y="6018120"/>
            <a:ext cx="542880" cy="820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1T19:59:18Z</dcterms:created>
  <dc:creator>Michael Alley</dc:creator>
  <dc:description/>
  <dc:language>en-US</dc:language>
  <cp:lastModifiedBy>Michael Alley</cp:lastModifiedBy>
  <cp:lastPrinted>2001-08-10T22:10:35Z</cp:lastPrinted>
  <dcterms:modified xsi:type="dcterms:W3CDTF">2004-07-26T13:30:36Z</dcterms:modified>
  <cp:revision>101</cp:revision>
  <dc:subject/>
  <dc:title>Scientific Writing (Editing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e.vt.edu/writing/</vt:lpwstr>
  </property>
  <property fmtid="{D5CDD505-2E9C-101B-9397-08002B2CF9AE}" pid="9" name="LinkColor">
    <vt:r8>16711782</vt:r8>
  </property>
  <property fmtid="{D5CDD505-2E9C-101B-9397-08002B2CF9AE}" pid="10" name="MailAddress">
    <vt:lpwstr>alley@vt.edu</vt:lpwstr>
  </property>
  <property fmtid="{D5CDD505-2E9C-101B-9397-08002B2CF9AE}" pid="11" name="NavBtnPos">
    <vt:r8>4</vt:r8>
  </property>
  <property fmtid="{D5CDD505-2E9C-101B-9397-08002B2CF9AE}" pid="12" name="Other">
    <vt:lpwstr>Virginia Tech</vt:lpwstr>
  </property>
  <property fmtid="{D5CDD505-2E9C-101B-9397-08002B2CF9AE}" pid="13" name="OutputDir">
    <vt:lpwstr>D:\My Documents\web pages\handbook\visuals\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