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305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telephone surve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696-4CDE-49F5-8E1E-F11C3DAC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74B-2F6F-4BA8-AC03-3B4D9060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00C-DB62-49D2-A71E-70703D32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F57-68AF-4580-BE68-3F52E8AA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4FA2-A7BF-4A2C-BC62-2E2C25C5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A461-1D3F-444A-A92F-9929D85E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189C-C40D-4B7D-B429-0FD11441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244C-E578-4C1B-AFB0-F3F12021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3D70-6EFB-447B-969B-73A57EEF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FFFF-7C10-46F8-88D2-E372544E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8A4C-61AF-4AF1-9AAA-FF225355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66A-143C-456A-AEAB-2216B1FE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6E44-0703-46C8-9895-C96FDC19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3A47-DBD3-48B7-8EAC-25408597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395C-1529-4FB1-8DFF-18C2D255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7418-2A86-4D70-8A92-69F1A5B6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1EAE-A98D-430E-A8AD-58C28FF5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296-7427-4A50-AA84-F2FF3DBF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EDD-0CE2-4A37-A405-2986B21B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233-CA19-45CF-9963-3C8A463C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38D-6170-4CD5-8635-D8E0D069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4D7-29E5-469C-BE57-24BF16C0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5A7-A7AC-4971-B228-0C503BD1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E87-FB68-4B6D-B1A9-002BAD27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8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27160" indent="-38736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476360" indent="-347760">
              <a:spcBef>
                <a:spcPts val="82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852560" indent="-374760">
              <a:spcBef>
                <a:spcPts val="82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852560" indent="-374760"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852560" indent="-374760"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zh-CN" sz="13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3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aramond"/>
                <a:ea typeface="宋体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3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8D8DAC3-8527-46CC-A228-9DEC10BDE26C}" type="slidenum">
              <a:rPr b="0" lang="en-US" sz="13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20840" y="252360"/>
            <a:ext cx="9072360" cy="671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04720" y="6804000"/>
            <a:ext cx="90727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07640" y="1679040"/>
            <a:ext cx="840420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5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zh-CN" sz="13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44840" y="688176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3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aramond"/>
                <a:ea typeface="宋体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3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D7FEAF8-9EEA-49BA-A127-86F68E1EAA8C}" type="slidenum">
              <a:rPr b="0" lang="en-US" sz="13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1400" y="1344600"/>
            <a:ext cx="8737560" cy="10080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84480" y="4367160"/>
            <a:ext cx="71787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0" algn="ctr">
              <a:spcBef>
                <a:spcPts val="72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739800" algn="ctr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28600" algn="ctr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477800" algn="ctr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47780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47780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7640" y="1679040"/>
            <a:ext cx="84042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49920"/>
                <a:tab algn="l" pos="6467400"/>
                <a:tab algn="l" pos="7186680"/>
                <a:tab algn="l" pos="7905600"/>
                <a:tab algn="l" pos="8624880"/>
                <a:tab algn="l" pos="9344160"/>
                <a:tab algn="l" pos="10063080"/>
                <a:tab algn="l" pos="10782360"/>
              </a:tabLst>
            </a:pPr>
            <a:r>
              <a:rPr b="0" lang="en-GB" sz="5500" spc="-1" strike="noStrike">
                <a:solidFill>
                  <a:srgbClr val="006633"/>
                </a:solidFill>
                <a:latin typeface="Garamond"/>
              </a:rPr>
              <a:t>Analysis and Design of CMU Alumni Surveys </a:t>
            </a:r>
            <a:endParaRPr b="0" lang="en-US" sz="5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60720" y="4500360"/>
            <a:ext cx="7224480" cy="19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49920"/>
                <a:tab algn="l" pos="6467400"/>
                <a:tab algn="l" pos="7186680"/>
                <a:tab algn="l" pos="7905600"/>
                <a:tab algn="l" pos="8624880"/>
                <a:tab algn="l" pos="9344160"/>
                <a:tab algn="l" pos="10063080"/>
                <a:tab algn="l" pos="1078236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eam: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Yi Jiang, Zhanwu Li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49920"/>
                <a:tab algn="l" pos="6467400"/>
                <a:tab algn="l" pos="7186680"/>
                <a:tab algn="l" pos="7905600"/>
                <a:tab algn="l" pos="8624880"/>
                <a:tab algn="l" pos="9344160"/>
                <a:tab algn="l" pos="10063080"/>
                <a:tab algn="l" pos="1078236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or: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Judy Cole,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hristian Kroh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49920"/>
                <a:tab algn="l" pos="6467400"/>
                <a:tab algn="l" pos="7186680"/>
                <a:tab algn="l" pos="7905600"/>
                <a:tab algn="l" pos="8624880"/>
                <a:tab algn="l" pos="9344160"/>
                <a:tab algn="l" pos="10063080"/>
                <a:tab algn="l" pos="1078236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isor: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an Junk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6942-783F-45A6-BB1D-307CE05E740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ploratory Data Analysis (4) – Degree Inform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68360" y="2124000"/>
            <a:ext cx="6985080" cy="3998520"/>
            <a:chOff x="1368360" y="2124000"/>
            <a:chExt cx="6985080" cy="3998520"/>
          </a:xfrm>
        </p:grpSpPr>
        <p:sp>
          <p:nvSpPr>
            <p:cNvPr id="163" name=""/>
            <p:cNvSpPr/>
            <p:nvPr/>
          </p:nvSpPr>
          <p:spPr>
            <a:xfrm>
              <a:off x="1368360" y="2124000"/>
              <a:ext cx="6985080" cy="39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umber             Percentage</a:t>
              </a:r>
              <a:br>
                <a:rPr sz="28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of Degrees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----------------------------------------------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 Degree           88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 Degrees         10.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3 Degrees         1.2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 Degrees         0.0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5 Degrees         1 coun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905440" y="3492360"/>
              <a:ext cx="1441440" cy="2363760"/>
              <a:chOff x="5905440" y="3492360"/>
              <a:chExt cx="1441440" cy="236376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05440" y="3492360"/>
                <a:ext cx="289080" cy="274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6" name=""/>
              <p:cNvGrpSpPr/>
              <p:nvPr/>
            </p:nvGrpSpPr>
            <p:grpSpPr>
              <a:xfrm>
                <a:off x="5905440" y="3997440"/>
                <a:ext cx="576360" cy="274320"/>
                <a:chOff x="5905440" y="3997440"/>
                <a:chExt cx="576360" cy="274320"/>
              </a:xfrm>
            </p:grpSpPr>
            <p:pic>
              <p:nvPicPr>
                <p:cNvPr id="1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05440" y="3997440"/>
                  <a:ext cx="289080" cy="274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92720" y="3997440"/>
                  <a:ext cx="289080" cy="27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9" name=""/>
              <p:cNvGrpSpPr/>
              <p:nvPr/>
            </p:nvGrpSpPr>
            <p:grpSpPr>
              <a:xfrm>
                <a:off x="5905440" y="4502160"/>
                <a:ext cx="865440" cy="274680"/>
                <a:chOff x="5905440" y="4502160"/>
                <a:chExt cx="865440" cy="274680"/>
              </a:xfrm>
            </p:grpSpPr>
            <p:pic>
              <p:nvPicPr>
                <p:cNvPr id="17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905440" y="4502160"/>
                  <a:ext cx="28908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192720" y="4502160"/>
                  <a:ext cx="28908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481800" y="4502160"/>
                  <a:ext cx="28908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3" name=""/>
              <p:cNvGrpSpPr/>
              <p:nvPr/>
            </p:nvGrpSpPr>
            <p:grpSpPr>
              <a:xfrm>
                <a:off x="5905440" y="5005440"/>
                <a:ext cx="1152720" cy="274680"/>
                <a:chOff x="5905440" y="5005440"/>
                <a:chExt cx="1152720" cy="274680"/>
              </a:xfrm>
            </p:grpSpPr>
            <p:pic>
              <p:nvPicPr>
                <p:cNvPr id="17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905440" y="5005440"/>
                  <a:ext cx="28908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92720" y="5005440"/>
                  <a:ext cx="28908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481800" y="5005440"/>
                  <a:ext cx="28908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769080" y="5005440"/>
                  <a:ext cx="28908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8" name=""/>
              <p:cNvGrpSpPr/>
              <p:nvPr/>
            </p:nvGrpSpPr>
            <p:grpSpPr>
              <a:xfrm>
                <a:off x="5905440" y="5581440"/>
                <a:ext cx="1441440" cy="274680"/>
                <a:chOff x="5905440" y="5581440"/>
                <a:chExt cx="1441440" cy="274680"/>
              </a:xfrm>
            </p:grpSpPr>
            <p:pic>
              <p:nvPicPr>
                <p:cNvPr id="17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905440" y="5581440"/>
                  <a:ext cx="28872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192720" y="5581440"/>
                  <a:ext cx="28872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481440" y="5581440"/>
                  <a:ext cx="28908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769080" y="5581440"/>
                  <a:ext cx="28872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057800" y="5581440"/>
                  <a:ext cx="28908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84" name=""/>
          <p:cNvSpPr/>
          <p:nvPr/>
        </p:nvSpPr>
        <p:spPr>
          <a:xfrm>
            <a:off x="647640" y="6227640"/>
            <a:ext cx="79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96600"/>
              </a:buClr>
              <a:buSzPct val="4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2903 have studied as undergraduate students at CM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1331640"/>
            <a:ext cx="5904000" cy="64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gree In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1AA-842E-4D8E-897C-A9B1C59B4C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xploratory Data Analysis (5) – Geographical Distribu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64275 records have US addre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24000" y="2627280"/>
            <a:ext cx="7634160" cy="4054680"/>
            <a:chOff x="1224000" y="2627280"/>
            <a:chExt cx="7634160" cy="4054680"/>
          </a:xfrm>
        </p:grpSpPr>
        <p:sp>
          <p:nvSpPr>
            <p:cNvPr id="189" name=""/>
            <p:cNvSpPr/>
            <p:nvPr/>
          </p:nvSpPr>
          <p:spPr>
            <a:xfrm>
              <a:off x="1224000" y="2627280"/>
              <a:ext cx="7634160" cy="405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1224000" y="2627280"/>
              <a:ext cx="7634160" cy="405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96D-E40A-402B-A7E7-0AEA3713C3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xploratory Data Analysis (6) –Geographical Information (International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27280" y="1908000"/>
            <a:ext cx="6192720" cy="475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9890-160C-448E-9020-FA41B7F729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xploratory Data Analysis (7) – Alumni from Each Ye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76360" y="1619280"/>
            <a:ext cx="8712000" cy="50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2B3-F3F9-48B6-A5FD-EC3A7FE336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ploratory Data Analysis (8) – School Inform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47640" y="1476360"/>
            <a:ext cx="4792680" cy="5256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737320" y="1562040"/>
            <a:ext cx="30092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chools no longer exis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MM: Margaret Morri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: Indus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L: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M: Printing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ame Chang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GSIA -&gt; TS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UPA -&gt; H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nd many other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C68-04CA-4D7A-AFA3-A1545C36A0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loratory Data Analysis (9) – Family inform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720" y="1979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5889 (8.3% reported alumni spouse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55755 (78.54%) reported 0 child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7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dicates that either this field was not updated, or the record was not updat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BAD-20D5-44C8-973E-218DFD3C68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ploratory Data Analysis (10) – Analysis: Sampling Bias by Email (1)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476360"/>
            <a:ext cx="8136000" cy="79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year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hance to reach recent gradu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47640" y="2195640"/>
            <a:ext cx="849636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875-8E58-4C26-A395-F89286DF26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ploratory Data Analysis (11) – Analysis: Sampling Bias by Email (2)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547280"/>
            <a:ext cx="8136000" cy="79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 Field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hance to reach graduates in arts by e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36720" y="2411280"/>
          <a:ext cx="7775640" cy="4184640"/>
        </p:xfrm>
        <a:graphic>
          <a:graphicData uri="http://schemas.openxmlformats.org/drawingml/2006/table">
            <a:tbl>
              <a:tblPr/>
              <a:tblGrid>
                <a:gridCol w="1487520"/>
                <a:gridCol w="3695400"/>
                <a:gridCol w="2592720"/>
              </a:tblGrid>
              <a:tr h="35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ield Cod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ield Descrip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cent with emai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Industrial Administr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.4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gineering, Oth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2.9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H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ducation, High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2.4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lting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.9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uting/Programming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7.2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r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9.3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D19-24D8-4261-B3EC-43A46C77BE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ploratory Data Analysis (12) – Analysis: Sampling Bias by Email (3)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8136000" cy="79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work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92000" y="2700360"/>
          <a:ext cx="8280720" cy="3976560"/>
        </p:xfrm>
        <a:graphic>
          <a:graphicData uri="http://schemas.openxmlformats.org/drawingml/2006/table">
            <a:tbl>
              <a:tblPr/>
              <a:tblGrid>
                <a:gridCol w="1866960"/>
                <a:gridCol w="2171880"/>
                <a:gridCol w="2476440"/>
                <a:gridCol w="1765440"/>
              </a:tblGrid>
              <a:tr h="61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Schoo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Number with email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Number without email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with email Percentag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CFA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4386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6215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41.37%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CIT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9627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10778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47.18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CS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2118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77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73.24%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GSIA + TSB + IM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7836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447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63.64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H&amp;S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4264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3688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53.62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HNZ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2561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1644 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60.90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MCS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3601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3543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50.41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109-9DF6-4915-A3E2-CCE294EEE0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ogistic Regressio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1331640"/>
            <a:ext cx="8856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ralization of regression that is used when the outcome is binary (0 or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27280" y="2987640"/>
          <a:ext cx="619272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2987640"/>
                    <a:ext cx="61927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160720" y="3995640"/>
          <a:ext cx="532584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0720" y="3995640"/>
                    <a:ext cx="532584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11280" y="5003640"/>
            <a:ext cx="6732720" cy="17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7C6-7F21-485C-90FC-9534659818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46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738360" indent="-358920">
              <a:spcBef>
                <a:spcPts val="825"/>
              </a:spcBef>
              <a:buClr>
                <a:srgbClr val="3b812f"/>
              </a:buClr>
              <a:buSzPct val="60000"/>
              <a:buFont typeface="Symbol" charset="2"/>
              <a:buChar char="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825"/>
              </a:spcBef>
              <a:buClr>
                <a:srgbClr val="3b812f"/>
              </a:buClr>
              <a:buSzPct val="60000"/>
              <a:buFont typeface="Symbol" charset="2"/>
              <a:buChar char="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825"/>
              </a:spcBef>
              <a:buClr>
                <a:srgbClr val="3b812f"/>
              </a:buClr>
              <a:buSzPct val="60000"/>
              <a:buFont typeface="Symbol" charset="2"/>
              <a:buChar char="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825"/>
              </a:spcBef>
              <a:buClr>
                <a:srgbClr val="3b812f"/>
              </a:buClr>
              <a:buSzPct val="60000"/>
              <a:buFont typeface="Symbol" charset="2"/>
              <a:buChar char="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Logistic Regression Resul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825"/>
              </a:spcBef>
              <a:buClr>
                <a:srgbClr val="3b812f"/>
              </a:buClr>
              <a:buSzPct val="60000"/>
              <a:buFont typeface="Symbol" charset="2"/>
              <a:buChar char="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Panel Survey Design Sugges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825"/>
              </a:spcBef>
              <a:buClr>
                <a:srgbClr val="3b812f"/>
              </a:buClr>
              <a:buSzPct val="60000"/>
              <a:buFont typeface="Symbol" charset="2"/>
              <a:buChar char="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825"/>
              </a:spcBef>
              <a:buClr>
                <a:srgbClr val="3b812f"/>
              </a:buClr>
              <a:buSzPct val="60000"/>
              <a:buFont typeface="Symbol" charset="2"/>
              <a:buChar char="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uggested Future Work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4DA-C5BF-48C0-B9E2-621E05E34D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ogistic Regressio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sponse: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ve or no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ze and participate ev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nate/give gif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spond to surve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dictor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ail Indic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eld of 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dergraduate Degree Indic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umber of Degrees from CM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vision (Geographical reg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 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umni Spo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A3E-EEC3-4166-B445-C8B83A4111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ogistic Regressio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sponse: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ve or no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ze and participate ev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nate/give gif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spond to surve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dictors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Red for significant predictors)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Email Indic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eld of 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Undergraduate Degree Indic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Number of Degrees from CM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Division (Geographical reg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Class 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Alumni Spo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310-E6EC-4589-A2BF-3A2BE18766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ogistic Regression Result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04720" y="1332000"/>
          <a:ext cx="9072720" cy="5489640"/>
        </p:xfrm>
        <a:graphic>
          <a:graphicData uri="http://schemas.openxmlformats.org/drawingml/2006/table">
            <a:tbl>
              <a:tblPr/>
              <a:tblGrid>
                <a:gridCol w="1730520"/>
                <a:gridCol w="2481120"/>
                <a:gridCol w="432000"/>
                <a:gridCol w="973080"/>
                <a:gridCol w="1008000"/>
                <a:gridCol w="1087560"/>
                <a:gridCol w="1360440"/>
              </a:tblGrid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DF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Estima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Standar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Err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Wald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Chi-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Pr &gt; Chi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EMAIL_IN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434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14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863.90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&lt;.00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Class yea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-0.045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01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673.332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&lt;.00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UnderDegre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10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17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37.037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34308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&lt;.00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NumDegre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14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3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7.026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&lt;.00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East North Cent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213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43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24.378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&lt;.00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East South Cent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14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106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.733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18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Foreig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-1.213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45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708.88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&lt;.00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Middle Atlanti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135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28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22.825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&lt;.00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Mountai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22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65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116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73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New Englan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291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47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37.390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&lt;.00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Pacifi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-0.031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36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75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38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South Atlanti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128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35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3.06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00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West North Cent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159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92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2.979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500" spc="-1" strike="noStrike">
                          <a:solidFill>
                            <a:srgbClr val="006633"/>
                          </a:solidFill>
                          <a:latin typeface="Times New Roman"/>
                          <a:ea typeface="宋体"/>
                        </a:rPr>
                        <a:t>0.084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994-8C57-4B10-A284-277961B60F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nel Survey Design Suggestion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– Introduc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5464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900" spc="-1" strike="noStrike">
                <a:solidFill>
                  <a:srgbClr val="3b812f"/>
                </a:solidFill>
                <a:latin typeface="Arial"/>
              </a:rPr>
              <a:t>Objectiv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out how to improve the relationship between the alumni and the schoo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900" spc="-1" strike="noStrike">
                <a:solidFill>
                  <a:srgbClr val="3b812f"/>
                </a:solidFill>
                <a:latin typeface="Arial"/>
              </a:rPr>
              <a:t>Definition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nel survey is a kind of survey that measures the same sample (alumni) at different points in tim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17760" y="1763280"/>
            <a:ext cx="44593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Arial"/>
              </a:rPr>
              <a:t>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changes of alumni’s relevant characteristics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causal effects of a specific character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size of a group of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group characteristics by the individ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68720" y="1763640"/>
            <a:ext cx="0" cy="482436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701-5CCA-46F6-AFCC-ED1EB0EA813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nel Survey Design Suggestion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– Three Key Facto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urvey spac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modes of the surve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spondent Selec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CEB-411A-4172-8CE5-91C13535BAD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Panel Survey Design Suggestions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– Survey Spac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4593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o short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ful changes may not have taken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o long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ssions of 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nel effec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’s behavior might be changed by participating in the surv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 Election – people who took a survey relating to an election may pay more attention to the election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16320" y="1763280"/>
            <a:ext cx="446076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ur project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people who often change their email addresses and mailing addr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 questions that require the alumni to recall 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064-A91B-4145-816A-F82BBB6E85B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503280" y="1835280"/>
          <a:ext cx="9072360" cy="3531960"/>
        </p:xfrm>
        <a:graphic>
          <a:graphicData uri="http://schemas.openxmlformats.org/drawingml/2006/table">
            <a:tbl>
              <a:tblPr/>
              <a:tblGrid>
                <a:gridCol w="3742920"/>
                <a:gridCol w="1729080"/>
                <a:gridCol w="1666800"/>
                <a:gridCol w="1933560"/>
              </a:tblGrid>
              <a:tr h="35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Type of Cri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Recall Interv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Diff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6 Month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3 Month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Total personal crim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12.8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15.4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-2.64**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Crimes of violence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3.4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4.2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-0.83**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Crimes of theft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9.3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11.2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-1.81**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Total household crimes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23.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26.3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-3.83**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Burglary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8.5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9.6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-1.15*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Larceny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12.7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15.0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-2.39**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Auto theft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1.7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2.0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9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-0.2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727200" y="1403280"/>
            <a:ext cx="86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able 1. Annual victimization rates by recall interval (per 100 persons 12+ years 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5080" y="5435640"/>
            <a:ext cx="281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urce: Bushery, 198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* Significant at the 10% lev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** Significant at the 5% lev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63320" y="6012000"/>
            <a:ext cx="478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nel Surve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Kasprzyk, Duncan, Kalton, Singh,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9B8-5C6F-411F-A309-BA99799F92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Panel Survey Design Suggestions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- The modes of the surve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4720" y="5364000"/>
            <a:ext cx="9072720" cy="1393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mode of the first survey is importan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23240" indent="-35172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ail in the first survey and by email in the following ones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240" indent="-35172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high response rates and low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03280" y="1692360"/>
          <a:ext cx="9072360" cy="3521160"/>
        </p:xfrm>
        <a:graphic>
          <a:graphicData uri="http://schemas.openxmlformats.org/drawingml/2006/table">
            <a:tbl>
              <a:tblPr/>
              <a:tblGrid>
                <a:gridCol w="2014200"/>
                <a:gridCol w="3457800"/>
                <a:gridCol w="646200"/>
                <a:gridCol w="295416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6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Type of Delivery 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6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Advant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6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Disadvant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6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In per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t feasible in alumni surve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6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Emai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st delivery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cost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de coverage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asy mainten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duced deliverability due to spam filtering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rely used email address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imited number of expressing techniqu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1600" spc="-1" strike="noStrike">
                          <a:solidFill>
                            <a:srgbClr val="006633"/>
                          </a:solidFill>
                          <a:latin typeface="Courier New"/>
                          <a:ea typeface="Courier New"/>
                        </a:rPr>
                        <a:t>Mai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er response rate than email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ood for alumni who do not use emai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urier New"/>
                        </a:rPr>
                        <a:t>Higher cost than ema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279-1358-48EB-8B23-A52E79B64CB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Panel Survey Design Suggestions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- Respondent Sele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timate the total number of the “active” alumni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intain the same proportion of “active” alumni in the sample to be surveyed such that the sample represent the whole population of alumni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.g., Foreign V.S. Domesti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n we rotate a fraction of alumni out of the panel after they have been surveyed for several times, newly selected people should also maintain that proportion to represent the whole population of alumni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eep track of the significant change of the proportion of “active” alumni in the whole population of alumni, if a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DE5-9402-4841-86ED-666F695050A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Conclusion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rom the analysis, we suggest to consider class year, geographical region and undergraduate study in CMU as strat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we design an email-based survey, we must be very cautious about the possible bia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designing the panel survey, survey spacing, the mode of the survey, and respondent selection are the three factors that we should consider carefull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42A-4015-4228-BEDF-3D9C45172D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49920"/>
                <a:tab algn="l" pos="6467400"/>
                <a:tab algn="l" pos="7186680"/>
                <a:tab algn="l" pos="7905600"/>
                <a:tab algn="l" pos="8624880"/>
                <a:tab algn="l" pos="9344160"/>
                <a:tab algn="l" pos="10063080"/>
                <a:tab algn="l" pos="10782360"/>
              </a:tabLst>
            </a:pPr>
            <a:r>
              <a:rPr b="0" lang="en-GB" sz="4600" spc="-1" strike="noStrike">
                <a:solidFill>
                  <a:srgbClr val="006633"/>
                </a:solidFill>
                <a:latin typeface="Garamond"/>
              </a:rPr>
              <a:t>Objectiv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547280"/>
            <a:ext cx="892980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marL="428400" indent="-4284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that alumni participation and concerns are considered through the university's advancement eff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96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Arial"/>
              </a:rPr>
              <a:t>Stratify the alumni and find the differences in attitudes and/or behavior between strat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084320" indent="-30852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to get more alumni involv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84320" indent="-30852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dentify the “active” alumni, or in other words, find the right strat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4320" indent="-308520">
              <a:lnSpc>
                <a:spcPct val="83000"/>
              </a:lnSpc>
              <a:spcBef>
                <a:spcPts val="374"/>
              </a:spcBef>
              <a:buClr>
                <a:srgbClr val="cc99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e the total number of “active” alumn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0">
              <a:lnSpc>
                <a:spcPct val="83000"/>
              </a:lnSpc>
              <a:spcBef>
                <a:spcPts val="4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084320" indent="-30852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email-based survey bias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84320" indent="-30852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alf of the records contain no email address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96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Arial"/>
              </a:rPr>
              <a:t>Provide suggestions for developing alumni panel survey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891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084320" indent="-30852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to design a survey panel that is representative of the population—all CMU alumn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8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udy Cole and Christian Krohn    </a:t>
            </a:r>
            <a:br>
              <a:rPr sz="1400"/>
            </a:b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ffice of Alumni Relations 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rnegie Mellon Univers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06C-4815-4211-849B-CDA948C662A2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Suggested Future Work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ategorical data analysis metho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90000"/>
              </a:lnSpc>
              <a:spcBef>
                <a:spcPts val="7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linear models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ustering method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view the literature to find similar examples to help decide the survey spacing in developing the panel surve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455-F0C7-48B8-8383-001D984F4D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2920" y="3492360"/>
            <a:ext cx="907236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The End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B97-D2CC-4362-81D1-039BDDF2D5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49920"/>
                <a:tab algn="l" pos="6467400"/>
                <a:tab algn="l" pos="7186680"/>
                <a:tab algn="l" pos="7905600"/>
                <a:tab algn="l" pos="8624880"/>
                <a:tab algn="l" pos="9344160"/>
                <a:tab algn="l" pos="10063080"/>
                <a:tab algn="l" pos="10782360"/>
              </a:tabLst>
            </a:pPr>
            <a:r>
              <a:rPr b="0" lang="en-GB" sz="4600" spc="-1" strike="noStrike">
                <a:solidFill>
                  <a:srgbClr val="006633"/>
                </a:solidFill>
                <a:latin typeface="Garamond"/>
              </a:rPr>
              <a:t>Data One – Databas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402920"/>
            <a:ext cx="907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3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7400"/>
                <a:tab algn="l" pos="7184880"/>
                <a:tab algn="l" pos="7904160"/>
                <a:tab algn="l" pos="8623440"/>
                <a:tab algn="l" pos="9342360"/>
                <a:tab algn="l" pos="10061640"/>
                <a:tab algn="l" pos="107805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SR Advance database about Carnegie Mellon alumn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3000"/>
              </a:lnSpc>
              <a:spcBef>
                <a:spcPts val="624"/>
              </a:spcBef>
              <a:buNone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7400"/>
                <a:tab algn="l" pos="7184880"/>
                <a:tab algn="l" pos="7904160"/>
                <a:tab algn="l" pos="8623440"/>
                <a:tab algn="l" pos="9342360"/>
                <a:tab algn="l" pos="10061640"/>
                <a:tab algn="l" pos="10780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2194560"/>
            <a:ext cx="9072000" cy="4609080"/>
            <a:chOff x="503280" y="2194560"/>
            <a:chExt cx="9072000" cy="4609080"/>
          </a:xfrm>
        </p:grpSpPr>
        <p:cxnSp>
          <p:nvCxnSpPr>
            <p:cNvPr id="99" name="_s5137"/>
            <p:cNvCxnSpPr>
              <a:stCxn id="100" idx="0"/>
              <a:endCxn id="101" idx="2"/>
            </p:cNvCxnSpPr>
            <p:nvPr/>
          </p:nvCxnSpPr>
          <p:spPr>
            <a:xfrm flipH="1" flipV="1" rot="5400000">
              <a:off x="8303400" y="3945600"/>
              <a:ext cx="202680" cy="32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02" name="_s5138"/>
            <p:cNvCxnSpPr>
              <a:stCxn id="103" idx="0"/>
              <a:endCxn id="104" idx="2"/>
            </p:cNvCxnSpPr>
            <p:nvPr/>
          </p:nvCxnSpPr>
          <p:spPr>
            <a:xfrm flipH="1" flipV="1" rot="5400000">
              <a:off x="5991840" y="3951360"/>
              <a:ext cx="189000" cy="7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05" name="_s5139"/>
            <p:cNvCxnSpPr>
              <a:stCxn id="106" idx="0"/>
              <a:endCxn id="107" idx="2"/>
            </p:cNvCxnSpPr>
            <p:nvPr/>
          </p:nvCxnSpPr>
          <p:spPr>
            <a:xfrm flipV="1">
              <a:off x="1547280" y="3868560"/>
              <a:ext cx="2520" cy="18108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08" name="_s5140"/>
            <p:cNvCxnSpPr>
              <a:stCxn id="107" idx="0"/>
              <a:endCxn id="109" idx="2"/>
            </p:cNvCxnSpPr>
            <p:nvPr/>
          </p:nvCxnSpPr>
          <p:spPr>
            <a:xfrm flipH="1" flipV="1" rot="5400000">
              <a:off x="3159720" y="1387800"/>
              <a:ext cx="210240" cy="3435480"/>
            </a:xfrm>
            <a:prstGeom prst="bentConnector3">
              <a:avLst>
                <a:gd name="adj1" fmla="val 50257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10" name="_s5141"/>
            <p:cNvCxnSpPr>
              <a:stCxn id="101" idx="0"/>
              <a:endCxn id="109" idx="2"/>
            </p:cNvCxnSpPr>
            <p:nvPr/>
          </p:nvCxnSpPr>
          <p:spPr>
            <a:xfrm flipV="1" rot="16200000">
              <a:off x="6592680" y="1389600"/>
              <a:ext cx="217800" cy="3439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11" name="_s5142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3675240" y="3945240"/>
              <a:ext cx="189000" cy="1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14" name="_s5143"/>
            <p:cNvCxnSpPr>
              <a:stCxn id="104" idx="0"/>
              <a:endCxn id="109" idx="2"/>
            </p:cNvCxnSpPr>
            <p:nvPr/>
          </p:nvCxnSpPr>
          <p:spPr>
            <a:xfrm flipV="1" rot="16200000">
              <a:off x="5428080" y="2554200"/>
              <a:ext cx="217800" cy="1109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15" name="_s5144"/>
            <p:cNvCxnSpPr>
              <a:stCxn id="113" idx="0"/>
              <a:endCxn id="109" idx="2"/>
            </p:cNvCxnSpPr>
            <p:nvPr/>
          </p:nvCxnSpPr>
          <p:spPr>
            <a:xfrm flipH="1" flipV="1" rot="5400000">
              <a:off x="4261680" y="2496960"/>
              <a:ext cx="217800" cy="1224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</a:ln>
          </p:spPr>
        </p:cxnSp>
        <p:sp>
          <p:nvSpPr>
            <p:cNvPr id="109" name="_s5145"/>
            <p:cNvSpPr/>
            <p:nvPr/>
          </p:nvSpPr>
          <p:spPr>
            <a:xfrm>
              <a:off x="3671280" y="2194560"/>
              <a:ext cx="2622600" cy="7927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atab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0985 alumni recor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5146"/>
            <p:cNvSpPr/>
            <p:nvPr/>
          </p:nvSpPr>
          <p:spPr>
            <a:xfrm>
              <a:off x="2604600" y="3231720"/>
              <a:ext cx="2308680" cy="6156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itional biographic inform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147"/>
            <p:cNvSpPr/>
            <p:nvPr/>
          </p:nvSpPr>
          <p:spPr>
            <a:xfrm>
              <a:off x="4935240" y="3231720"/>
              <a:ext cx="2309040" cy="6156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spect inform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148"/>
            <p:cNvSpPr/>
            <p:nvPr/>
          </p:nvSpPr>
          <p:spPr>
            <a:xfrm>
              <a:off x="2663280" y="4065120"/>
              <a:ext cx="2231280" cy="2738520"/>
            </a:xfrm>
            <a:custGeom>
              <a:avLst/>
              <a:gdLst>
                <a:gd name="textAreaLeft" fmla="*/ 25200 w 2231280"/>
                <a:gd name="textAreaRight" fmla="*/ 2206080 w 2231280"/>
                <a:gd name="textAreaTop" fmla="*/ 25200 h 2738520"/>
                <a:gd name="textAreaBottom" fmla="*/ 2713320 h 2738520"/>
              </a:gdLst>
              <a:ahLst/>
              <a:rect l="textAreaLeft" t="textAreaTop" r="textAreaRight" b="textAreaBottom"/>
              <a:pathLst>
                <a:path w="21600" h="26510">
                  <a:moveTo>
                    <a:pt x="833" y="0"/>
                  </a:moveTo>
                  <a:arcTo wR="833" hR="833" stAng="16200000" swAng="-5400000"/>
                  <a:lnTo>
                    <a:pt x="0" y="25677"/>
                  </a:lnTo>
                  <a:arcTo wR="833" hR="833" stAng="10800000" swAng="-5400000"/>
                  <a:lnTo>
                    <a:pt x="20767" y="26510"/>
                  </a:lnTo>
                  <a:arcTo wR="833" hR="833" stAng="5400000" swAng="-5400000"/>
                  <a:lnTo>
                    <a:pt x="21600" y="833"/>
                  </a:lnTo>
                  <a:arcTo wR="833" hR="833" stAng="0" swAng="-5400000"/>
                  <a:close/>
                </a:path>
              </a:pathLst>
            </a:custGeom>
            <a:noFill/>
            <a:ln w="284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" rIns="1440" tIns="720" bIns="72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ctivities/ev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war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mitte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ere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hilanthropic affinit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ublicati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udent activit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or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5149"/>
            <p:cNvSpPr/>
            <p:nvPr/>
          </p:nvSpPr>
          <p:spPr>
            <a:xfrm>
              <a:off x="7266240" y="3231720"/>
              <a:ext cx="2309040" cy="6156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" rIns="144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iving summ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150"/>
            <p:cNvSpPr/>
            <p:nvPr/>
          </p:nvSpPr>
          <p:spPr>
            <a:xfrm>
              <a:off x="503280" y="3224520"/>
              <a:ext cx="2087280" cy="6310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asic biographic inform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151"/>
            <p:cNvSpPr/>
            <p:nvPr/>
          </p:nvSpPr>
          <p:spPr>
            <a:xfrm>
              <a:off x="503280" y="4065120"/>
              <a:ext cx="2087280" cy="2730600"/>
            </a:xfrm>
            <a:custGeom>
              <a:avLst/>
              <a:gdLst>
                <a:gd name="textAreaLeft" fmla="*/ 37800 w 2087280"/>
                <a:gd name="textAreaRight" fmla="*/ 2049480 w 2087280"/>
                <a:gd name="textAreaTop" fmla="*/ 37800 h 2730600"/>
                <a:gd name="textAreaBottom" fmla="*/ 2692800 h 2730600"/>
              </a:gdLst>
              <a:ahLst/>
              <a:rect l="textAreaLeft" t="textAreaTop" r="textAreaRight" b="textAreaBottom"/>
              <a:pathLst>
                <a:path w="21600" h="28256">
                  <a:moveTo>
                    <a:pt x="1344" y="0"/>
                  </a:moveTo>
                  <a:arcTo wR="1344" hR="1344" stAng="16200000" swAng="-5400000"/>
                  <a:lnTo>
                    <a:pt x="0" y="26912"/>
                  </a:lnTo>
                  <a:arcTo wR="1344" hR="1344" stAng="10800000" swAng="-5400000"/>
                  <a:lnTo>
                    <a:pt x="20256" y="28256"/>
                  </a:lnTo>
                  <a:arcTo wR="1344" hR="1344" stAng="5400000" swAng="-5400000"/>
                  <a:lnTo>
                    <a:pt x="21600" y="1344"/>
                  </a:lnTo>
                  <a:arcTo wR="1344" hR="1344" stAng="0" swAng="-5400000"/>
                  <a:close/>
                </a:path>
              </a:pathLst>
            </a:custGeom>
            <a:noFill/>
            <a:ln w="284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o detai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r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mploy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rsonal relationship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gree Inform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filiati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5152"/>
            <p:cNvSpPr/>
            <p:nvPr/>
          </p:nvSpPr>
          <p:spPr>
            <a:xfrm>
              <a:off x="5040000" y="4065120"/>
              <a:ext cx="2085840" cy="2738520"/>
            </a:xfrm>
            <a:custGeom>
              <a:avLst/>
              <a:gdLst>
                <a:gd name="textAreaLeft" fmla="*/ 19800 w 2085840"/>
                <a:gd name="textAreaRight" fmla="*/ 2066040 w 2085840"/>
                <a:gd name="textAreaTop" fmla="*/ 19800 h 2738520"/>
                <a:gd name="textAreaBottom" fmla="*/ 2718720 h 2738520"/>
              </a:gdLst>
              <a:ahLst/>
              <a:rect l="textAreaLeft" t="textAreaTop" r="textAreaRight" b="textAreaBottom"/>
              <a:pathLst>
                <a:path w="21600" h="28358">
                  <a:moveTo>
                    <a:pt x="704" y="0"/>
                  </a:moveTo>
                  <a:arcTo wR="704" hR="704" stAng="16200000" swAng="-5400000"/>
                  <a:lnTo>
                    <a:pt x="0" y="27654"/>
                  </a:lnTo>
                  <a:arcTo wR="704" hR="704" stAng="10800000" swAng="-5400000"/>
                  <a:lnTo>
                    <a:pt x="20896" y="28358"/>
                  </a:lnTo>
                  <a:arcTo wR="704" hR="704" stAng="5400000" swAng="-5400000"/>
                  <a:lnTo>
                    <a:pt x="21600" y="704"/>
                  </a:lnTo>
                  <a:arcTo wR="704" hR="704" stAng="0" swAng="-5400000"/>
                  <a:close/>
                </a:path>
              </a:pathLst>
            </a:custGeom>
            <a:noFill/>
            <a:ln w="284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ealth and Asse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spect Ra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spect Manager Assign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ewardshi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5153"/>
            <p:cNvSpPr/>
            <p:nvPr/>
          </p:nvSpPr>
          <p:spPr>
            <a:xfrm>
              <a:off x="7198920" y="4077000"/>
              <a:ext cx="2376360" cy="2726640"/>
            </a:xfrm>
            <a:custGeom>
              <a:avLst/>
              <a:gdLst>
                <a:gd name="textAreaLeft" fmla="*/ 4320 w 2376360"/>
                <a:gd name="textAreaRight" fmla="*/ 2372040 w 2376360"/>
                <a:gd name="textAreaTop" fmla="*/ 4320 h 2726640"/>
                <a:gd name="textAreaBottom" fmla="*/ 2722320 h 2726640"/>
              </a:gdLst>
              <a:ahLst/>
              <a:rect l="textAreaLeft" t="textAreaTop" r="textAreaRight" b="textAreaBottom"/>
              <a:pathLst>
                <a:path w="21600" h="24783">
                  <a:moveTo>
                    <a:pt x="138" y="0"/>
                  </a:moveTo>
                  <a:arcTo wR="138" hR="138" stAng="16200000" swAng="-5400000"/>
                  <a:lnTo>
                    <a:pt x="0" y="24645"/>
                  </a:lnTo>
                  <a:arcTo wR="138" hR="138" stAng="10800000" swAng="-5400000"/>
                  <a:lnTo>
                    <a:pt x="21462" y="24783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noFill/>
            <a:ln w="284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ppea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ift Club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otal Lifetime Giv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otal Cred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argest Gif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verall Outstanding Bal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ears of Annual Giv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m of Annual Giv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argest Annual Gif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ift and Pledge Transac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tching clai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DE6-81EB-43A7-AD87-0D72A1A61F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49920"/>
                <a:tab algn="l" pos="6467400"/>
                <a:tab algn="l" pos="7186680"/>
                <a:tab algn="l" pos="7905600"/>
                <a:tab algn="l" pos="8624880"/>
                <a:tab algn="l" pos="9344160"/>
                <a:tab algn="l" pos="10063080"/>
                <a:tab algn="l" pos="10782360"/>
              </a:tabLst>
            </a:pPr>
            <a:r>
              <a:rPr b="0" lang="en-GB" sz="4600" spc="-1" strike="noStrike">
                <a:solidFill>
                  <a:srgbClr val="006633"/>
                </a:solidFill>
                <a:latin typeface="Garamond"/>
              </a:rPr>
              <a:t>Data One – Databas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402920"/>
            <a:ext cx="907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43800" indent="-343800">
              <a:lnSpc>
                <a:spcPct val="93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7400"/>
                <a:tab algn="l" pos="7184880"/>
                <a:tab algn="l" pos="7904160"/>
                <a:tab algn="l" pos="8623440"/>
                <a:tab algn="l" pos="9342360"/>
                <a:tab algn="l" pos="10061640"/>
                <a:tab algn="l" pos="107805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SR Advance database about Carnegie Mellon alumni, parents, donors and frie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5200" indent="0">
              <a:lnSpc>
                <a:spcPct val="93000"/>
              </a:lnSpc>
              <a:spcBef>
                <a:spcPts val="624"/>
              </a:spcBef>
              <a:buNone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7400"/>
                <a:tab algn="l" pos="7184880"/>
                <a:tab algn="l" pos="7904160"/>
                <a:tab algn="l" pos="8623440"/>
                <a:tab algn="l" pos="9342360"/>
                <a:tab algn="l" pos="10061640"/>
                <a:tab algn="l" pos="10780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03280" y="2194560"/>
            <a:ext cx="9073800" cy="4609080"/>
            <a:chOff x="503280" y="2194560"/>
            <a:chExt cx="9073800" cy="4609080"/>
          </a:xfrm>
        </p:grpSpPr>
        <p:cxnSp>
          <p:nvCxnSpPr>
            <p:cNvPr id="119" name="_s91142"/>
            <p:cNvCxnSpPr>
              <a:stCxn id="120" idx="0"/>
              <a:endCxn id="121" idx="2"/>
            </p:cNvCxnSpPr>
            <p:nvPr/>
          </p:nvCxnSpPr>
          <p:spPr>
            <a:xfrm flipH="1" flipV="1" rot="5400000">
              <a:off x="8308440" y="3940920"/>
              <a:ext cx="192960" cy="32760"/>
            </a:xfrm>
            <a:prstGeom prst="bentConnector3">
              <a:avLst>
                <a:gd name="adj1" fmla="val 49906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22" name="_s91143"/>
            <p:cNvCxnSpPr>
              <a:stCxn id="123" idx="0"/>
              <a:endCxn id="124" idx="2"/>
            </p:cNvCxnSpPr>
            <p:nvPr/>
          </p:nvCxnSpPr>
          <p:spPr>
            <a:xfrm flipH="1" flipV="1" rot="5400000">
              <a:off x="5992200" y="3951360"/>
              <a:ext cx="189000" cy="7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25" name="_s91144"/>
            <p:cNvCxnSpPr>
              <a:stCxn id="126" idx="0"/>
              <a:endCxn id="127" idx="2"/>
            </p:cNvCxnSpPr>
            <p:nvPr/>
          </p:nvCxnSpPr>
          <p:spPr>
            <a:xfrm flipV="1">
              <a:off x="1547280" y="3868560"/>
              <a:ext cx="2520" cy="18108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28" name="_s91145"/>
            <p:cNvCxnSpPr>
              <a:stCxn id="127" idx="0"/>
              <a:endCxn id="129" idx="2"/>
            </p:cNvCxnSpPr>
            <p:nvPr/>
          </p:nvCxnSpPr>
          <p:spPr>
            <a:xfrm flipH="1" flipV="1" rot="5400000">
              <a:off x="3159720" y="1387800"/>
              <a:ext cx="210240" cy="3435480"/>
            </a:xfrm>
            <a:prstGeom prst="bentConnector3">
              <a:avLst>
                <a:gd name="adj1" fmla="val 50257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30" name="_s91146"/>
            <p:cNvCxnSpPr>
              <a:stCxn id="121" idx="0"/>
              <a:endCxn id="129" idx="2"/>
            </p:cNvCxnSpPr>
            <p:nvPr/>
          </p:nvCxnSpPr>
          <p:spPr>
            <a:xfrm flipV="1" rot="16200000">
              <a:off x="6592680" y="1389600"/>
              <a:ext cx="217800" cy="3439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31" name="_s91147"/>
            <p:cNvCxnSpPr>
              <a:stCxn id="132" idx="0"/>
              <a:endCxn id="133" idx="2"/>
            </p:cNvCxnSpPr>
            <p:nvPr/>
          </p:nvCxnSpPr>
          <p:spPr>
            <a:xfrm flipV="1" rot="16200000">
              <a:off x="3675240" y="3945240"/>
              <a:ext cx="189000" cy="1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34" name="_s91148"/>
            <p:cNvCxnSpPr>
              <a:stCxn id="124" idx="0"/>
              <a:endCxn id="129" idx="2"/>
            </p:cNvCxnSpPr>
            <p:nvPr/>
          </p:nvCxnSpPr>
          <p:spPr>
            <a:xfrm flipV="1" rot="16200000">
              <a:off x="5428080" y="2554200"/>
              <a:ext cx="217800" cy="1109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35" name="_s91149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4262040" y="2496960"/>
              <a:ext cx="217800" cy="1224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</a:ln>
          </p:spPr>
        </p:cxnSp>
        <p:sp>
          <p:nvSpPr>
            <p:cNvPr id="129" name="_s91150"/>
            <p:cNvSpPr/>
            <p:nvPr/>
          </p:nvSpPr>
          <p:spPr>
            <a:xfrm>
              <a:off x="3671280" y="2194560"/>
              <a:ext cx="2622600" cy="7927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atab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0985 recor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91151"/>
            <p:cNvSpPr/>
            <p:nvPr/>
          </p:nvSpPr>
          <p:spPr>
            <a:xfrm>
              <a:off x="2604600" y="3231720"/>
              <a:ext cx="2308680" cy="6156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itional biographic inform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91152"/>
            <p:cNvSpPr/>
            <p:nvPr/>
          </p:nvSpPr>
          <p:spPr>
            <a:xfrm>
              <a:off x="4935240" y="3231720"/>
              <a:ext cx="2309040" cy="6156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spect inform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91153"/>
            <p:cNvSpPr/>
            <p:nvPr/>
          </p:nvSpPr>
          <p:spPr>
            <a:xfrm>
              <a:off x="2663640" y="4065120"/>
              <a:ext cx="2231280" cy="2738520"/>
            </a:xfrm>
            <a:custGeom>
              <a:avLst/>
              <a:gdLst>
                <a:gd name="textAreaLeft" fmla="*/ 25200 w 2231280"/>
                <a:gd name="textAreaRight" fmla="*/ 2206080 w 2231280"/>
                <a:gd name="textAreaTop" fmla="*/ 25200 h 2738520"/>
                <a:gd name="textAreaBottom" fmla="*/ 2713320 h 2738520"/>
              </a:gdLst>
              <a:ahLst/>
              <a:rect l="textAreaLeft" t="textAreaTop" r="textAreaRight" b="textAreaBottom"/>
              <a:pathLst>
                <a:path w="21600" h="26510">
                  <a:moveTo>
                    <a:pt x="833" y="0"/>
                  </a:moveTo>
                  <a:arcTo wR="833" hR="833" stAng="16200000" swAng="-5400000"/>
                  <a:lnTo>
                    <a:pt x="0" y="25677"/>
                  </a:lnTo>
                  <a:arcTo wR="833" hR="833" stAng="10800000" swAng="-5400000"/>
                  <a:lnTo>
                    <a:pt x="20767" y="26510"/>
                  </a:lnTo>
                  <a:arcTo wR="833" hR="833" stAng="5400000" swAng="-5400000"/>
                  <a:lnTo>
                    <a:pt x="21600" y="833"/>
                  </a:lnTo>
                  <a:arcTo wR="833" hR="833" stAng="0" swAng="-5400000"/>
                  <a:close/>
                </a:path>
              </a:pathLst>
            </a:custGeom>
            <a:noFill/>
            <a:ln w="284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" rIns="1440" tIns="720" bIns="72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Activities/ev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war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Committe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ere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hilanthropic affinit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ublicati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udent activit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or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91154"/>
            <p:cNvSpPr/>
            <p:nvPr/>
          </p:nvSpPr>
          <p:spPr>
            <a:xfrm>
              <a:off x="7266240" y="3231720"/>
              <a:ext cx="2309040" cy="6156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" rIns="144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iving summ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91155"/>
            <p:cNvSpPr/>
            <p:nvPr/>
          </p:nvSpPr>
          <p:spPr>
            <a:xfrm>
              <a:off x="503280" y="3224520"/>
              <a:ext cx="2087640" cy="6310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asic biographic inform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91156"/>
            <p:cNvSpPr/>
            <p:nvPr/>
          </p:nvSpPr>
          <p:spPr>
            <a:xfrm>
              <a:off x="503280" y="4065120"/>
              <a:ext cx="2087640" cy="2730600"/>
            </a:xfrm>
            <a:custGeom>
              <a:avLst/>
              <a:gdLst>
                <a:gd name="textAreaLeft" fmla="*/ 37800 w 2087640"/>
                <a:gd name="textAreaRight" fmla="*/ 2049840 w 2087640"/>
                <a:gd name="textAreaTop" fmla="*/ 37800 h 2730600"/>
                <a:gd name="textAreaBottom" fmla="*/ 2692800 h 2730600"/>
              </a:gdLst>
              <a:ahLst/>
              <a:rect l="textAreaLeft" t="textAreaTop" r="textAreaRight" b="textAreaBottom"/>
              <a:pathLst>
                <a:path w="21600" h="28251">
                  <a:moveTo>
                    <a:pt x="1344" y="0"/>
                  </a:moveTo>
                  <a:arcTo wR="1344" hR="1344" stAng="16200000" swAng="-5400000"/>
                  <a:lnTo>
                    <a:pt x="0" y="26907"/>
                  </a:lnTo>
                  <a:arcTo wR="1344" hR="1344" stAng="10800000" swAng="-5400000"/>
                  <a:lnTo>
                    <a:pt x="20256" y="28251"/>
                  </a:lnTo>
                  <a:arcTo wR="1344" hR="1344" stAng="5400000" swAng="-5400000"/>
                  <a:lnTo>
                    <a:pt x="21600" y="1344"/>
                  </a:lnTo>
                  <a:arcTo wR="1344" hR="1344" stAng="0" swAng="-5400000"/>
                  <a:close/>
                </a:path>
              </a:pathLst>
            </a:custGeom>
            <a:noFill/>
            <a:ln w="284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Bio detai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Addr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Employ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Personal relationship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Degree Inform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filiati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91157"/>
            <p:cNvSpPr/>
            <p:nvPr/>
          </p:nvSpPr>
          <p:spPr>
            <a:xfrm>
              <a:off x="5040000" y="4065120"/>
              <a:ext cx="2085840" cy="2738520"/>
            </a:xfrm>
            <a:custGeom>
              <a:avLst/>
              <a:gdLst>
                <a:gd name="textAreaLeft" fmla="*/ 19800 w 2085840"/>
                <a:gd name="textAreaRight" fmla="*/ 2066040 w 2085840"/>
                <a:gd name="textAreaTop" fmla="*/ 19800 h 2738520"/>
                <a:gd name="textAreaBottom" fmla="*/ 2718720 h 2738520"/>
              </a:gdLst>
              <a:ahLst/>
              <a:rect l="textAreaLeft" t="textAreaTop" r="textAreaRight" b="textAreaBottom"/>
              <a:pathLst>
                <a:path w="21600" h="28358">
                  <a:moveTo>
                    <a:pt x="704" y="0"/>
                  </a:moveTo>
                  <a:arcTo wR="704" hR="704" stAng="16200000" swAng="-5400000"/>
                  <a:lnTo>
                    <a:pt x="0" y="27654"/>
                  </a:lnTo>
                  <a:arcTo wR="704" hR="704" stAng="10800000" swAng="-5400000"/>
                  <a:lnTo>
                    <a:pt x="20896" y="28358"/>
                  </a:lnTo>
                  <a:arcTo wR="704" hR="704" stAng="5400000" swAng="-5400000"/>
                  <a:lnTo>
                    <a:pt x="21600" y="704"/>
                  </a:lnTo>
                  <a:arcTo wR="704" hR="704" stAng="0" swAng="-5400000"/>
                  <a:close/>
                </a:path>
              </a:pathLst>
            </a:custGeom>
            <a:noFill/>
            <a:ln w="284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ealth and Asse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spect Ra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spect Manager Assign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ewardshi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91158"/>
            <p:cNvSpPr/>
            <p:nvPr/>
          </p:nvSpPr>
          <p:spPr>
            <a:xfrm>
              <a:off x="7200720" y="4066920"/>
              <a:ext cx="2376360" cy="2727000"/>
            </a:xfrm>
            <a:custGeom>
              <a:avLst/>
              <a:gdLst>
                <a:gd name="textAreaLeft" fmla="*/ 4320 w 2376360"/>
                <a:gd name="textAreaRight" fmla="*/ 2372040 w 2376360"/>
                <a:gd name="textAreaTop" fmla="*/ 4320 h 2727000"/>
                <a:gd name="textAreaBottom" fmla="*/ 2722680 h 2727000"/>
              </a:gdLst>
              <a:ahLst/>
              <a:rect l="textAreaLeft" t="textAreaTop" r="textAreaRight" b="textAreaBottom"/>
              <a:pathLst>
                <a:path w="21600" h="24787">
                  <a:moveTo>
                    <a:pt x="138" y="0"/>
                  </a:moveTo>
                  <a:arcTo wR="138" hR="138" stAng="16200000" swAng="-5400000"/>
                  <a:lnTo>
                    <a:pt x="0" y="24649"/>
                  </a:lnTo>
                  <a:arcTo wR="138" hR="138" stAng="10800000" swAng="-5400000"/>
                  <a:lnTo>
                    <a:pt x="21462" y="24787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noFill/>
            <a:ln w="284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ppea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ift Club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Total Lifetime Giv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otal Cred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Largest Gif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verall Outstanding Bal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ears of Annual Giv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m of Annual Giv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argest Annual Gif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ift and Pledge Transac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tching clai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192360" y="6948360"/>
            <a:ext cx="32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Red for information used 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613-2581-4EA3-861C-1F5C57C697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49920"/>
                <a:tab algn="l" pos="6467400"/>
                <a:tab algn="l" pos="7186680"/>
                <a:tab algn="l" pos="7905600"/>
                <a:tab algn="l" pos="8624880"/>
                <a:tab algn="l" pos="9344160"/>
                <a:tab algn="l" pos="10063080"/>
                <a:tab algn="l" pos="10782360"/>
              </a:tabLst>
            </a:pPr>
            <a:r>
              <a:rPr b="0" lang="en-GB" sz="4600" spc="-1" strike="noStrike">
                <a:solidFill>
                  <a:srgbClr val="006633"/>
                </a:solidFill>
                <a:latin typeface="Garamond"/>
              </a:rPr>
              <a:t>Data Two – Previous Survey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3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7400"/>
                <a:tab algn="l" pos="7184880"/>
                <a:tab algn="l" pos="7904160"/>
                <a:tab algn="l" pos="8623440"/>
                <a:tab algn="l" pos="9342360"/>
                <a:tab algn="l" pos="10061640"/>
                <a:tab algn="l" pos="107805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Previous survey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7400"/>
                <a:tab algn="l" pos="7184880"/>
                <a:tab algn="l" pos="7904160"/>
                <a:tab algn="l" pos="8623440"/>
                <a:tab algn="l" pos="9342360"/>
                <a:tab algn="l" pos="10061640"/>
                <a:tab algn="l" pos="10780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93000"/>
              </a:lnSpc>
              <a:spcBef>
                <a:spcPts val="7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7400"/>
                <a:tab algn="l" pos="7184880"/>
                <a:tab algn="l" pos="7904160"/>
                <a:tab algn="l" pos="8623440"/>
                <a:tab algn="l" pos="9342360"/>
                <a:tab algn="l" pos="10061640"/>
                <a:tab algn="l" pos="107805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02: by email, mail and we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7400"/>
                <a:tab algn="l" pos="7184880"/>
                <a:tab algn="l" pos="7904160"/>
                <a:tab algn="l" pos="8623440"/>
                <a:tab algn="l" pos="9342360"/>
                <a:tab algn="l" pos="10061640"/>
                <a:tab algn="l" pos="10780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93000"/>
              </a:lnSpc>
              <a:spcBef>
                <a:spcPts val="7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7400"/>
                <a:tab algn="l" pos="7184880"/>
                <a:tab algn="l" pos="7904160"/>
                <a:tab algn="l" pos="8623440"/>
                <a:tab algn="l" pos="9342360"/>
                <a:tab algn="l" pos="10061640"/>
                <a:tab algn="l" pos="107805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04: email, a small portion by mai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7400"/>
                <a:tab algn="l" pos="7184880"/>
                <a:tab algn="l" pos="7904160"/>
                <a:tab algn="l" pos="8623440"/>
                <a:tab algn="l" pos="9342360"/>
                <a:tab algn="l" pos="10061640"/>
                <a:tab algn="l" pos="10780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93000"/>
              </a:lnSpc>
              <a:spcBef>
                <a:spcPts val="7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7400"/>
                <a:tab algn="l" pos="7184880"/>
                <a:tab algn="l" pos="7904160"/>
                <a:tab algn="l" pos="8623440"/>
                <a:tab algn="l" pos="9342360"/>
                <a:tab algn="l" pos="10061640"/>
                <a:tab algn="l" pos="107805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06: email (but not used her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52360" y="3059280"/>
            <a:ext cx="4967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52360" y="3995640"/>
            <a:ext cx="5975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708-E708-48D1-A135-593BE31C7F1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xploratory Data Analysis (1) – Missing Da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6000" y="1619280"/>
            <a:ext cx="8907480" cy="1030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issing data in the basic biographic in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79640" y="2771640"/>
          <a:ext cx="7993080" cy="4032000"/>
        </p:xfrm>
        <a:graphic>
          <a:graphicData uri="http://schemas.openxmlformats.org/drawingml/2006/table">
            <a:tbl>
              <a:tblPr/>
              <a:tblGrid>
                <a:gridCol w="4725720"/>
                <a:gridCol w="326736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 marL="106200" indent="-106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riabl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6200" indent="-106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centage Miss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anchor="t">
                      <a:noAutofit/>
                    </a:bodyPr>
                    <a:p>
                      <a:pPr marL="106200" indent="-106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res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6200" indent="-106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65 (0.94%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9400">
                <a:tc>
                  <a:txBody>
                    <a:bodyPr anchor="t">
                      <a:noAutofit/>
                    </a:bodyPr>
                    <a:p>
                      <a:pPr marL="106200" indent="-106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eo Co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6200" indent="-106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656 (24.87%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 marL="106200" indent="-106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ob Title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6200" indent="-106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752(44.73%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9400">
                <a:tc>
                  <a:txBody>
                    <a:bodyPr anchor="t">
                      <a:noAutofit/>
                    </a:bodyPr>
                    <a:p>
                      <a:pPr marL="106200" indent="-106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ield of Work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6200" indent="-106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850 (53.32%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 marL="106200" indent="-106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choo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6200" indent="-106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 (0.03%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9E7-4C08-42C3-BBEA-346EE61292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loratory Data Analysis (2) - Ge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9280" y="1549440"/>
            <a:ext cx="7920000" cy="2014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 of 70985 records, there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071 (69.13%)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913 (30.87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440000" y="3419640"/>
            <a:ext cx="2022480" cy="3328920"/>
            <a:chOff x="1440000" y="3419640"/>
            <a:chExt cx="2022480" cy="332892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881440" y="3490920"/>
              <a:ext cx="5810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2808360" y="4643640"/>
              <a:ext cx="5810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1440000" y="3419640"/>
              <a:ext cx="5810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2089440" y="3490920"/>
              <a:ext cx="5810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>
              <a:off x="1584360" y="4427640"/>
              <a:ext cx="5810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>
              <a:off x="2160720" y="4570560"/>
              <a:ext cx="5810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7"/>
            <a:stretch/>
          </p:blipFill>
          <p:spPr>
            <a:xfrm>
              <a:off x="2016360" y="5291280"/>
              <a:ext cx="581040" cy="145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5832360" y="3419640"/>
            <a:ext cx="1645920" cy="2674800"/>
            <a:chOff x="5832360" y="3419640"/>
            <a:chExt cx="1645920" cy="2674800"/>
          </a:xfrm>
        </p:grpSpPr>
        <p:pic>
          <p:nvPicPr>
            <p:cNvPr id="155" name="" descr=""/>
            <p:cNvPicPr/>
            <p:nvPr/>
          </p:nvPicPr>
          <p:blipFill>
            <a:blip r:embed="rId8"/>
            <a:stretch/>
          </p:blipFill>
          <p:spPr>
            <a:xfrm>
              <a:off x="6190920" y="3419640"/>
              <a:ext cx="71136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9"/>
            <a:stretch/>
          </p:blipFill>
          <p:spPr>
            <a:xfrm>
              <a:off x="5832360" y="4354560"/>
              <a:ext cx="71100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0"/>
            <a:stretch/>
          </p:blipFill>
          <p:spPr>
            <a:xfrm>
              <a:off x="6767280" y="4067280"/>
              <a:ext cx="711000" cy="173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193-918F-4940-9A9B-731C331726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xploratory Data Analysis (3) – Field of Work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4720" y="15494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eld of Work (53% missing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640" y="2195640"/>
            <a:ext cx="871380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ode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Numb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Percentage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-------------------------------------------------------------------------------------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BA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12320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37.18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Business/Industrial Admin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EO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3964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11.96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Engineering, 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EH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3643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10.99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Education, 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U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1657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5.00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onsul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P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1431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4.32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Computing/Program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T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1196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3.61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R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955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2.88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rchite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OT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860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2.60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Othe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NP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845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2.55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Non-Profit Organ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PK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644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1.94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Public 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EA3-2B6D-42BB-82E2-0AD962D369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Introducing developments and alternatives, recommending one or more strategies</dc:description>
  <dc:language>en-US</dc:language>
  <cp:lastModifiedBy>jiang</cp:lastModifiedBy>
  <dcterms:modified xsi:type="dcterms:W3CDTF">2007-05-04T01:23:06Z</dcterms:modified>
  <cp:revision>70</cp:revision>
  <dc:subject/>
  <dc:title>Carnegie Mellon Alumni Survey</dc:title>
</cp:coreProperties>
</file>