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D21E-565F-4787-8EA9-6834DD59D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732E-5009-44BE-9C3F-FB1B3D0B6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9361-7376-4FCE-AA4C-57218BAF7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AF2B-9047-47FA-B114-3DDD090D9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F9FA41-4D41-4645-B3F6-2B61F7358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63C7E3-F409-4BB8-B1C6-44F65B44E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51C34A-7C1C-4486-9542-05B0C8F87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E71FBE-9463-4E27-9BDD-77E1E6990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390414-99E9-43BD-800C-3F9C6BB0F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7828C1-0B7E-48D3-8F20-9FB14C9D9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59972F-4CC1-4DDE-B404-3E6EB1F5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2ED0-F55D-4EAD-80A0-B9FE739D1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9E3089-D030-46C8-B660-82D7FB8FB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573C06-0AAC-4494-AD69-EFD165310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B6EC58-4145-4640-B4CC-0828C9A04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BFC58B-7D9F-4B36-A94F-A47B43E86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B1230B-A7E2-4A38-B82B-B8BCF5F7D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1002-042C-4D50-BF02-1D6DD9CB9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6E6A-9CE0-46EF-BF6C-3555E4D2E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3027-339B-4AE3-84C3-95CD9854E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89CD-BEC4-4761-A606-E0DDFBB4C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C916-B7F6-4B2F-832E-73426580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507B-0774-4176-B98B-48F7310B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0143-7C53-494F-8D38-1E3CB81AD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E224D-539B-4605-BF72-177F30C9074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CCEDD-0E2E-4882-9BC4-BBE7BF17D63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Biochemical Markers of Neuron Growth</a:t>
            </a:r>
            <a:br>
              <a:rPr sz="4800"/>
            </a:b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am: Andrew Crossett, Steve Wasi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ent: Alison Barth, CMU Biology Dep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Big Pictur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ison is trying to understand the molecular composition of specific synapses in the neocortex of mi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role is to investigate the glutamate receptors within the synap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ree Groups of Mic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o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e have no whiskers remov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a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e have all but one whisker removed, Neurons extracted are from the neocorte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i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e have all but one whiskers removed, Neurons extracted are in proximity of the neocorte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ollecting the Dat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ce are split into the three groups, and then kept alive for a given period.  Neurons from their neocortexs’ are then collected. Signal activity is then measured for up to 16 hours after the removal of brain tissu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ecorded characteristics of the action potential at the synapses a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e time, Decay time, Amplitude, Frequenc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Variables of Interes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se time – a measure of distance from cell body to the receiving dendr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ay time – hypothesized to be a measure of strength of conn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plitude – importance of neur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quency – not clear, needs further investigation.  Current hypothesized to be importance of sign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Near Futur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stigate fitting a parametric model to each of the variables intere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ify rise spee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ying more rigorous statistical standards to what has already been accomplish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cking for optimal bin wid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stical significance of perceived or hypothesized behavior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ong ter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ify glutamate receptors based on the differences in the four characteristics between the three group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thods??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3T20:28:58Z</dcterms:created>
  <dc:creator>wasik</dc:creator>
  <dc:description/>
  <dc:language>en-US</dc:language>
  <cp:lastModifiedBy>GK</cp:lastModifiedBy>
  <dcterms:modified xsi:type="dcterms:W3CDTF">2007-01-24T18:16:19Z</dcterms:modified>
  <cp:revision>8</cp:revision>
  <dc:subject/>
  <dc:title>Biochemical Markers of Neuron Growth </dc:title>
</cp:coreProperties>
</file>