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19C-D542-4763-BB61-F02DD568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5C9-749B-4AEA-9EA4-421465DD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77D-7C6C-48F2-94CB-9AD9F5E1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FE0-E2D0-4980-AAFA-5A52C1B8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2488B-C0CC-4A0B-8682-C5786BD1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96D0F-69AA-4E1E-BD09-E785BE20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76E5A-CFAD-4958-A5F6-C7929BD5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A251B-4057-4DAC-8A0C-F20C923C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FB43E-1327-46E5-A659-68CF53D9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B37E6-1BB0-48AF-A345-4E1803D2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CF2E9-04CA-4FC8-B3E2-665E8909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4FC-5687-478B-84E1-E034F9BE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19FA5-1D08-4FFA-82D2-9C978A70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CD30B-0937-487B-930E-BF4FC1E1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10F14-16BC-4349-B33A-5411A14F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EF119-8FEF-401A-8D23-AF4A5A95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511A4-0BA5-4AF8-82B3-9CF5D7AE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FE5-F48A-46A5-8FD5-E037BDC9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6B9-4D04-49C3-9F54-F8AB6D0E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366-5E4E-415E-A6BE-6339058B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634-A4A7-477E-9695-8F0A6A3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01B-7EDE-4992-9A46-FCBF6980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AA2-E54D-4CFB-B93D-2C40055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B21-CF45-4BAF-A0B6-ADB82320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6315-A923-426B-BFE1-2DD4CAA03B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B902-5404-416A-81F7-BC3062C760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Biochemical Markers of Neuron Growth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: Andrew Crossett, Steve Was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: Alison Barth, CMU Biology D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son is trying to understand the molecular composition of specific synapses in the neocortex of m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ole is to investigate the glutamate receptors within the synap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ree Groups of M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e have no whiskers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e have all but one whisker removed, Neurons extracted are from the neoco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e have all but one whiskers removed, Neurons extracted are in proximity of the neoco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ecting the Da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e are split into the three groups, and then kept alive for a given period.  Neurons from their neocortexs’ are then collected. Signal activity is then measured for up to 16 hours after the removal of brain tiss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orded characteristics of the action potential at the synaps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time, Decay time, Amplitude, Frequen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riables of Inter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 time – a measure of distance from cell body to the receiving dend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ay time – hypothesized to be a measure of strength of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 – importance of neu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– not clear, needs further investigation.  Current hypothesized to be importance of sig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ar Fu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e fitting a parametric model to each of the variables 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y rise sp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ing more rigorous statistical standards to what has already been accomplis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for optimal bin wid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significance of perceived or hypothesized behavi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ng te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y glutamate receptors based on the differences in the four characteristics between the three grou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s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20:28:58Z</dcterms:created>
  <dc:creator>wasik</dc:creator>
  <dc:description/>
  <dc:language>en-US</dc:language>
  <cp:lastModifiedBy>GK</cp:lastModifiedBy>
  <dcterms:modified xsi:type="dcterms:W3CDTF">2007-01-24T18:16:19Z</dcterms:modified>
  <cp:revision>8</cp:revision>
  <dc:subject/>
  <dc:title>Biochemical Markers of Neuron Growth </dc:title>
</cp:coreProperties>
</file>