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wmf" ContentType="image/x-wmf"/>
  <Override PartName="/ppt/media/image6.jpeg" ContentType="image/jpeg"/>
  <Override PartName="/ppt/media/image10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2.wmf" ContentType="image/x-wmf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8BC1-5DB0-42B0-9FA8-AAA4F22D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ing Tutor was moderately significant in explaining improvement during the Fall in Passage Comprehension and Fluency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st was the Reading Tutor associated with lower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or futur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’s low attrition, Project Kane should have sufficient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or increased guided reading practice can help improve reading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oak: Read Naturally with reading spe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Pitt: mix of individual reading, group reading, jour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participants: never used tutor, but we have all other inf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2FB-654C-4481-BC42-1B9ED45E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777-07DA-440F-9898-6721918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5FA-DC21-4B6A-80ED-4ECD4EFF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C0F-0132-476A-ABF7-4BE273DD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A60-E07C-4180-B8B1-EDCB1236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5C4F-FF53-4B79-BA9C-B72B128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AD2-E33C-450A-8391-1E6F5047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6E65-D1BA-44E2-9ACC-AF9FB6C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9A61-91A0-46B8-89C7-8621612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C88A-D86B-49DB-91F1-AE05C666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B938-DD11-4B1C-BA53-9B374A9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58F-3AF1-44D2-9075-5DFCA5B1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530-AC75-4B8E-A238-A570A80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677B-DB2F-4698-BAAA-E83049B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07D3-EF03-4BD4-94BD-39E26168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4DAE-FDB8-4714-AF9E-6F59B417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010-94AB-4786-BD24-8015694E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57A-05A8-4AB8-9342-1641D33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082-8331-4229-BCA0-AAA249F8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AE0-7656-40B8-94A8-5FB4B8FD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FA7-BCD5-4EA1-90CA-93FD252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F3E-0B8B-4E02-B034-4BC90EA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D91-4896-4A2C-960B-D122D59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553-04C6-4F8F-BFF1-813E560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9E3-70AE-4BC4-A6B3-7296CF6764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14A-5699-4587-9804-5E1269966D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ject LISTEN</a:t>
            </a:r>
            <a:br>
              <a:rPr sz="4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Arial"/>
              </a:rPr>
              <a:t>An Evaluation of an Automated Reading Tutor in Pittsburgh Area Public School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llaborators: Nathaniel Anozie, April Galyardt, Elise Olson, Department of Stat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incipal Investigator: Jack Mostow (R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-investigators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seph Beck (MLD), Albert Corbett (HCI), and Mosur Ravishankar (ISR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1713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4F4-7656-4604-A530-CF108410C0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se Non-participants as another Control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38520" cy="453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75000" y="1295280"/>
            <a:ext cx="486900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CEC-057C-47CA-962F-794B27FD7C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Model with no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e Gain in Score (14 mode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 – Pre (Fall), or Post - Mid (Sp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one out cross-valid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/14 Models Tutor variable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/5 Models Tutor moderately signific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67000" cy="141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57B-00EB-4684-A30F-607D27EE5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8269" t="8448" r="7518" b="8123"/>
          <a:stretch/>
        </p:blipFill>
        <p:spPr>
          <a:xfrm>
            <a:off x="0" y="22860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2DE-07B4-4D4C-AEAE-8402773D46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7499" t="8344" r="8335" b="8245"/>
          <a:stretch/>
        </p:blipFill>
        <p:spPr>
          <a:xfrm>
            <a:off x="152280" y="152280"/>
            <a:ext cx="883944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80B-33A1-4DDC-8CC8-C159A7310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w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066680"/>
          <a:ext cx="8610480" cy="48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61048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rcRect l="16005" t="16003" r="14184" b="13599"/>
          <a:stretch/>
        </p:blipFill>
        <p:spPr>
          <a:xfrm>
            <a:off x="7391520" y="304920"/>
            <a:ext cx="1371600" cy="12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1CA-5409-44AA-90B0-6753EDF7A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What change in grade equivalency (or fluency) score do we want to be able to detect with power = 0.8?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much higher sample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ore accurately detect a beta of size 8, we need a sample of size n = 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values obtained from Russ Lenth’s Power App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64832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4B4-F280-43B3-9614-530C5FB087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National Research Council Recommendations for Success in Educational Research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true partnership with the school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 internal validity of study design and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on recruiting sufficient number of study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for future implementation of an intervention if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: “Implementing Randomized Field Trials in Education:   Report of a Workshop.”  Lisa Towne and Margaret Hilton, Editors, Committee on  Research in Education, National Research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C8F-D063-4218-A381-BA24BF4B2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commendations for Project Kané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K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onal effect overwhelms tutor eff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s must be comparable to avoid false positives and false neg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tutor usage and attendance (to account for important possible confoun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sample size gives higher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1D4-6935-49E1-AED8-8C16C189D0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Happened to Project Kané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Kané with Principal Investigator Ayorkor Mills-Tettey is moving al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Learned can be applied to Project Ka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590560" cy="20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9F0-D0E2-47F9-BD6B-BCB108C745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ject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tivation: 14% of US population are below a basic literacy level (According to The National Assessment of Adult Literacy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al: Determine how the Project LISTEN’s Reading Tutor compares to small group instruction in terms of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52396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13C-6E9F-48A5-8386-AEE76A745B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Design an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with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ations for Future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84744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29000" y="4952880"/>
            <a:ext cx="9428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724280" y="495288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943600" y="495288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162920" y="495288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860-E5ED-4C17-B983-2A5B6EDBE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 Treatment Cross-Over Desig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504-B89D-4A1F-AF1F-BC496D8E3F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(participants and non-participants) during 2005-2006 School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natory Variables: Group, Grade, School, Gender, Ethnicity, Homeroom, Tutor 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e Variables: 3 Test scores each: pre-test, mid-test, post-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 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Someone taking a test"/>
          <p:cNvPicPr/>
          <p:nvPr/>
        </p:nvPicPr>
        <p:blipFill>
          <a:blip r:embed="rId1"/>
          <a:stretch/>
        </p:blipFill>
        <p:spPr>
          <a:xfrm>
            <a:off x="5715000" y="396252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EA6-0B35-46AC-8DC5-8D445DDB23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asonal Eff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838080"/>
          <a:ext cx="82296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6D6-0772-45B1-ADFD-A6B368691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liminary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9680" y="990720"/>
          <a:ext cx="51055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1055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115-B7BD-45F0-A741-0D9EDF2C1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erage Tutor Usage By Gra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218880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(Hour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(Hour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ders used the tutor much less tha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 between Fall and Spring Usage makes it difficult to compare the groups in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917-B294-40F0-A430-596EA3818C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1:20:38Z</dcterms:created>
  <dc:creator>Elise</dc:creator>
  <dc:description/>
  <dc:language>en-US</dc:language>
  <cp:lastModifiedBy>Elise</cp:lastModifiedBy>
  <dcterms:modified xsi:type="dcterms:W3CDTF">2007-04-23T17:17:32Z</dcterms:modified>
  <cp:revision>25</cp:revision>
  <dc:subject/>
  <dc:title>Project Kané  Impact of an Automated Reading Tutor in Ghana</dc:title>
</cp:coreProperties>
</file>