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ut don’t know how to implement it y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finition from: http://www.ojp.usdoj.gov/BJA/evaluation/glossary/glossary_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mail proble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bsolete email addr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pam fil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ow to compare the sample distribution with the population?  Which variab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6080" cy="56674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宋体"/>
              </a:rPr>
              <a:t>Analysis and Design of CMU Alumni Surveys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i Jia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Zhanwu L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宋体"/>
              </a:rPr>
              <a:t>The Questions 3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e number of alum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ing capture/recapture method to estimate the total number of alum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宋体"/>
              </a:rPr>
              <a:t>The Difficulti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atabase is messy, like other re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hen analyzing the involvement of the alumni, what should be the response var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to evaluate different stratifying method? (How do I know a sample is “good”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宋体"/>
              </a:rPr>
              <a:t>The Difficulti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echnical difficu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to deal with the data, we consider to use 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pture/recaptur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宋体"/>
              </a:rPr>
              <a:t>Our Proposal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宋体"/>
              </a:rPr>
              <a:t>	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63640" y="2195280"/>
            <a:ext cx="8609040" cy="59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Analyze the bias of email-based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ow people with email different from people has no email address in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Analyze the involvement in CMU adv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What is the difference between alumni who responded twice, once and none to previous surv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imulate sampling using different str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Which stratifying scheme represents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Capture/recapture analysis to analyze the population siz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Design the panel based on all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宋体"/>
              </a:rPr>
              <a:t>The Client</a:t>
            </a:r>
            <a:br>
              <a:rPr sz="4400"/>
            </a:b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1240" y="1758600"/>
            <a:ext cx="860904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Judy Cole and Christian Krohn from Carnegie Mellon Office of Alumni Re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Interest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nsure that alumni participation and concerns are considered through the university's advancement effor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宋体"/>
              </a:rPr>
              <a:t>The Data 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e alumni database with 77,000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sic biographic information (bio details, address, employment, personal relationships, degree, affili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ditional biographic information (Activities/events, awards, committees, interests, philanthropic affinities, publications, student activities, spo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spec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iving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宋体"/>
              </a:rPr>
              <a:t>The Data 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evious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02: by email, mail and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04: email, a small portion by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06: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宋体"/>
              </a:rPr>
              <a:t>The Dat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e can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cords from the database (possibly some information removed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ist of those who responded the 2004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ist of those who responded the 2006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e will meet next week, and sign a confidentiality agreement, and get the data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宋体"/>
              </a:rPr>
              <a:t>The Questio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7480" indent="-609480">
              <a:lnSpc>
                <a:spcPct val="83000"/>
              </a:lnSpc>
              <a:buClr>
                <a:srgbClr val="0e594d"/>
              </a:buClr>
              <a:buSzPct val="45000"/>
              <a:buFont typeface="Arial"/>
              <a:buAutoNum type="arabicPeriod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s email-based survey bia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09520" indent="-533160">
              <a:lnSpc>
                <a:spcPct val="8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lf of the records contain no emai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8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7480" indent="-609480">
              <a:lnSpc>
                <a:spcPct val="83000"/>
              </a:lnSpc>
              <a:buClr>
                <a:srgbClr val="0e594d"/>
              </a:buClr>
              <a:buSzPct val="45000"/>
              <a:buFont typeface="Arial"/>
              <a:buAutoNum type="arabicPeriod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to design a survey panel that is representative of the population—all CMU alumn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09520" indent="-533160">
              <a:lnSpc>
                <a:spcPct val="8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ich stratifying method will give better samp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9520" indent="0">
              <a:lnSpc>
                <a:spcPct val="83000"/>
              </a:lnSpc>
              <a:buNone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7480" indent="-609480">
              <a:lnSpc>
                <a:spcPct val="83000"/>
              </a:lnSpc>
              <a:buClr>
                <a:srgbClr val="0e594d"/>
              </a:buClr>
              <a:buSzPct val="45000"/>
              <a:buFont typeface="Arial"/>
              <a:buAutoNum type="arabicPeriod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to get more alumni inv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09520" indent="-533160">
              <a:lnSpc>
                <a:spcPct val="8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dentify the “active” alum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9520" indent="-533160">
              <a:lnSpc>
                <a:spcPct val="8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stimate the total number of alum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9520" indent="0">
              <a:lnSpc>
                <a:spcPct val="83000"/>
              </a:lnSpc>
              <a:buNone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宋体"/>
              </a:rPr>
              <a:t>The questions 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ias of emai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ba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o has email in fi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0">
              <a:lnSpc>
                <a:spcPct val="93000"/>
              </a:lnSpc>
              <a:buNone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0">
              <a:lnSpc>
                <a:spcPct val="93000"/>
              </a:lnSpc>
              <a:buNone/>
              <a:tabLst>
                <a:tab algn="l" pos="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alysis of database to see the difference between those with email and those without email in f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宋体"/>
              </a:rPr>
              <a:t>The Questions 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ratify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o simulated sampling in the database using different stratifying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mpare the sample with the “population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宋体"/>
              </a:rPr>
              <a:t>The Questions 3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to get more alumni involve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is the characteristic of the alumni who responded both email survey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ther indicator of involvement: giving, participation of event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hanwu Liu</dc:creator>
  <dc:description>Introducing developments and alternatives, recommending one or more strategies</dc:description>
  <dc:language>en-US</dc:language>
  <cp:lastModifiedBy>zhanwul</cp:lastModifiedBy>
  <dcterms:modified xsi:type="dcterms:W3CDTF">2007-01-24T19:38:24Z</dcterms:modified>
  <cp:revision>49</cp:revision>
  <dc:subject/>
  <dc:title>Carnegie Mellon Alumni Survey</dc:title>
</cp:coreProperties>
</file>