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22E-EE55-4479-9810-2B890570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FE48-360F-45AE-83CA-40922886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4DA-BBC3-4350-A924-C9F949B1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699-CA6F-4CFB-804B-71FFDBA4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A8B-6F99-4F50-AEF2-3A0B0CF3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BAA1-04EC-475A-AD5D-4B4046E9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A772-440C-40F7-9DAC-4E6CABE4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F26-98C6-41F6-B398-3E6EE39D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83A-BC44-4393-B5ED-D860BDEA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5B2-6B1E-4D13-9FAC-9FAB14DF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0F3-F71C-4541-902E-C2197B09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89DD-88B6-4E38-89EB-79AF72DC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5B61-0B71-4BD9-8633-1EA7AEB69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Neu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a Bel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uhei Okum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 Sommer, CNBC, U of Pi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y Neurons based on Spike Waveform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733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2240" y="3276720"/>
            <a:ext cx="2969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ibitory 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arrow wid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igh Spontaneous F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7920" y="3352680"/>
            <a:ext cx="29131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itatory 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road width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w Spontaneous F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 Neu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 Wid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ntaneous F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I (Interspike Interval)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3048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son 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or dual 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int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different processes for different neurons (as time permi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icul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56 Neu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ons of the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between structure of the spike and sub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lassify? (Nearest Neighbors?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21:12:36Z</dcterms:created>
  <dc:creator>Gaia Bellone</dc:creator>
  <dc:description/>
  <dc:language>en-US</dc:language>
  <cp:lastModifiedBy>Gaia Bellone</cp:lastModifiedBy>
  <dcterms:modified xsi:type="dcterms:W3CDTF">2007-01-24T17:03:38Z</dcterms:modified>
  <cp:revision>3</cp:revision>
  <dc:subject/>
  <dc:title>Classification of Neurons</dc:title>
</cp:coreProperties>
</file>