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999-FC30-44F3-8232-B7F71131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55F-9B4C-4645-BC20-05A92709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AD3-CC92-4E53-8724-92E804D8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34D-BD53-4F86-8A3C-1773D03B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14E1-611C-474B-8A00-9E0E198B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283B-F0E5-4801-87AC-65F905E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E6CE-2B27-479B-AB1D-672423C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A6F3-C36F-4AE2-A279-6F982C25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CE7F-7FDB-4B6B-91EF-0E94D03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EA0-CF3A-4804-8948-20142EA0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C9D-6BDA-4CD3-AF40-4FA06CD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73F-FBC8-4987-9AB8-87D8F3F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340-51DD-4CBC-AD32-D9DEA7B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423F-4642-4142-AB87-3A6894DC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DF33-E985-4D59-B581-6B74156A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AF67-1C24-4579-B6B6-EF620A04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3CE2-8AF9-45D6-B817-124BBDCA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6D7-CEA5-46AE-BB2A-4520C3DC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535-198F-4944-977E-B871D305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9FC-609A-48FA-BC8B-9B2358C3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160-648F-470A-9C21-0AAC46B3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E25-E11B-4D59-A6FC-A80694E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8E3-A5DF-443B-8E4D-2241937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FAA-732D-4602-96A6-EE49B09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65DB-11DC-473D-B81E-15A39EBCFE3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3B70-6075-4592-B137-573CF2A6D4A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roject Kan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é</a:t>
            </a:r>
            <a:br>
              <a:rPr sz="3600"/>
            </a:br>
            <a:br>
              <a:rPr sz="3600"/>
            </a:br>
            <a:r>
              <a:rPr b="0" lang="en-US" sz="2600" spc="-1" strike="noStrike">
                <a:solidFill>
                  <a:srgbClr val="f7d47d"/>
                </a:solidFill>
                <a:latin typeface="Arial"/>
                <a:ea typeface="Arial"/>
              </a:rPr>
              <a:t>Impact of an Automated Reading Tutor in Ghana</a:t>
            </a:r>
            <a:endParaRPr b="0" lang="en-US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2f1311"/>
                </a:solidFill>
                <a:latin typeface="Arial"/>
                <a:ea typeface="Arial"/>
              </a:rPr>
              <a:t>Principal Investigators: Ayorkor Mills-Tettey, Jack Mostow, Robotics Institute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311"/>
                </a:solidFill>
                <a:latin typeface="Arial"/>
                <a:ea typeface="Arial"/>
              </a:rPr>
              <a:t>Collaborators: April Galyart, Nathaniel Anozie, Elise Olson, Department of Statistics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25905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ject Summa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tivation: preponderance of low literacy levels in Ghana partly due to limited opportunities for guided reading pract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al: To test the hypothesis that Project LISTEN’s Reading Tutor significantly helps children in Ghana improve their reading ski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n questions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es the Reading Tutor improv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luency level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pelling level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factors affect improvem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ta and Methodolog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ta – expected to receive final scores in Apri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luency and spelling test scores both before and after the use of the tut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pproximately 90 students, both male and female, grades 2-4, from 3 schools corresponding to different economic backgroun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thodology – Two-treatment cross-over stud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reatment 1: No special reading interven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reatment 2: Guided practice with LISTEN (30 minutes per day)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esign Issu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334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eliminary Dat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86200" y="1523880"/>
          <a:ext cx="3886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523880"/>
                    <a:ext cx="3886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0" y="1523880"/>
          <a:ext cx="4038480" cy="495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3880"/>
                    <a:ext cx="40384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urther Difficulties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me on task eff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with undefined literacy leve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s who have defined fluencies on easy passages but not harder on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ertical equat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asonal or order effec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s who cannot be matched by pre-pre test scor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s who leave during the study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mall sample size limits number of possible covariates – need to do power analy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me.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ext Steps…Pittsburgh Dat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ata from a similar project run in Pittsburgh public schools in 2005-200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similar analysis on this data in the meantime, answering similar ques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ear Regression after transformation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1:20:38Z</dcterms:created>
  <dc:creator>Elise</dc:creator>
  <dc:description/>
  <dc:language>en-US</dc:language>
  <cp:lastModifiedBy>Elise</cp:lastModifiedBy>
  <dcterms:modified xsi:type="dcterms:W3CDTF">2007-01-22T14:19:39Z</dcterms:modified>
  <cp:revision>7</cp:revision>
  <dc:subject/>
  <dc:title>Project Kané  Impact of an Automated Reading Tutor in Ghana</dc:title>
</cp:coreProperties>
</file>